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71D-39CF-4A62-A2D1-F874BD6BB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2F73-F3ED-4032-9F48-B06ADA834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320-1DF0-4E13-92BE-038AEBB8B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E66-94F1-4C64-A106-A72114B1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4F3-DEE2-4269-9CF9-653A27EB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E1B-24B9-4FA8-815F-0FF933BD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EA4-484E-4377-8E0C-368D2534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81B-FB6D-4689-8D05-20938ECE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E99-3609-4959-AB06-2D6981BC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FE9-77DC-4FD8-B214-53AD224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19E-A36D-416A-AD1E-E787C0A3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E47-D99F-4F68-ADE5-A58CF14B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FBD-D919-46F7-BA43-1870D2E9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0BA-B7DE-4601-9921-AA5EB91D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38E-C608-4743-BBEA-E4EB01F1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17B1-7B04-4474-A49F-EC080FE7D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819520" y="2590920"/>
            <a:ext cx="3504960" cy="99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8195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er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 flipH="1">
            <a:off x="4343400" y="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 flipH="1">
            <a:off x="4343400" y="358128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7"/>
          <p:cNvSpPr/>
          <p:nvPr/>
        </p:nvSpPr>
        <p:spPr>
          <a:xfrm>
            <a:off x="6324480" y="31240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8"/>
          <p:cNvSpPr/>
          <p:nvPr/>
        </p:nvSpPr>
        <p:spPr>
          <a:xfrm>
            <a:off x="0" y="31240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 Jogging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6324480" y="3124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fter Service &amp; Late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2819520" y="335268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Intro) Name, relation, service, over-vie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traight Connector 8"/>
          <p:cNvSpPr/>
          <p:nvPr/>
        </p:nvSpPr>
        <p:spPr>
          <a:xfrm flipH="1">
            <a:off x="4419720" y="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0"/>
          <p:cNvSpPr/>
          <p:nvPr/>
        </p:nvSpPr>
        <p:spPr>
          <a:xfrm flipH="1">
            <a:off x="4419720" y="3581280"/>
            <a:ext cx="144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27"/>
          <p:cNvSpPr/>
          <p:nvPr/>
        </p:nvSpPr>
        <p:spPr>
          <a:xfrm>
            <a:off x="6172200" y="304812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8"/>
          <p:cNvSpPr/>
          <p:nvPr/>
        </p:nvSpPr>
        <p:spPr>
          <a:xfrm>
            <a:off x="0" y="3048120"/>
            <a:ext cx="632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 Jogging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4419720" y="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4419720" y="3048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 After Service &amp; Late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304920" y="457200"/>
            <a:ext cx="39621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drafted or did you enli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were you living at th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jo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pick the service branch you jo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your first days in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it feel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your boot camp/training experi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your instr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get through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4419720" y="30492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war(s) did you ser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exactly did you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arriving and what it wa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your job/assig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see comb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many casualties in your un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a couple of your most memorab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a prisoner of w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me about your experiences in captivity and when fr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you awarded any medals or cit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get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ranks may be asked about battle planning.  Those who sustained injuries may be asked about the circum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0" y="3657600"/>
            <a:ext cx="4572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questions about life in the service and/or at the front or under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stay in touch with your fami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the food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have plenty of suppl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feel pressure or st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there something special you did for good l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people entertain themsel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entertain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do when on le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id you travel while in the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any particularly humorous or unusual ev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some of the pranks that you or others would pu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photo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think of officers or fellow soldi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keep a personal di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4419720" y="3352680"/>
            <a:ext cx="457200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ness of questions will vary if the veteran had a military care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call the day your service ende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were you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do in the days and weeks afterwar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work or go back to schoo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your education supported by the G.I. Bil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make any close friendships while in the servic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continue any of those relationship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o, for how long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join a vetera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organizatio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go on to do as a career after the wa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r military experience influence your thinking about war or about the military in genera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n a vetera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organization, what kinds of activities does your post or association hav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attend reunion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r service and experiences affect your lif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nything you would like to add that we have not covered in this interview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057400" y="6324480"/>
            <a:ext cx="2286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of wisdom/advice from the veteran to stud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18:45Z</dcterms:created>
  <dc:creator>Tammy</dc:creator>
  <dc:description/>
  <dc:language>en-US</dc:language>
  <cp:lastModifiedBy>Pam O'Risky</cp:lastModifiedBy>
  <dcterms:modified xsi:type="dcterms:W3CDTF">2013-10-15T16:57:27Z</dcterms:modified>
  <cp:revision>10</cp:revision>
  <dc:subject/>
  <dc:title>Slide 1</dc:title>
</cp:coreProperties>
</file>