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719A-57FD-4490-BCC5-35397E779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61FD-FE91-46D7-A557-DB1592BD3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D366-A7B3-46E7-B9C1-A62A6FC06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C2A5-4069-4D54-8EC2-3789A4BC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8E2C-8BA1-4756-8EE5-8805662C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506-E545-4EB8-95E0-2F5CE6CD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A0B6-76D7-44D0-A6DD-A8A48597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2E7-DEEC-49D5-930D-AAE0D851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DF0-A987-40F0-B7E5-1BE4336E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7AB-C449-48EF-A01D-F8D8C102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60B-9BA4-411F-898D-6E803D12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B3BF-9745-4F0B-A05A-791A9861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762A-8BA0-4701-BB0C-C92867EA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8393-6ABE-4FA2-BE1B-031CA5A4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A67-9B18-4A76-803C-6B38CF80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4BC8-DE89-458E-A607-4C666E8A7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819520" y="2590920"/>
            <a:ext cx="3504960" cy="99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8195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ter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 flipH="1">
            <a:off x="4343400" y="0"/>
            <a:ext cx="144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 flipH="1">
            <a:off x="4343400" y="3581280"/>
            <a:ext cx="144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7"/>
          <p:cNvSpPr/>
          <p:nvPr/>
        </p:nvSpPr>
        <p:spPr>
          <a:xfrm>
            <a:off x="6324480" y="3124080"/>
            <a:ext cx="281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8"/>
          <p:cNvSpPr/>
          <p:nvPr/>
        </p:nvSpPr>
        <p:spPr>
          <a:xfrm>
            <a:off x="0" y="3124080"/>
            <a:ext cx="281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9"/>
          <p:cNvSpPr/>
          <p:nvPr/>
        </p:nvSpPr>
        <p:spPr>
          <a:xfrm>
            <a:off x="0" y="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 Jogging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0"/>
          <p:cNvSpPr/>
          <p:nvPr/>
        </p:nvSpPr>
        <p:spPr>
          <a:xfrm>
            <a:off x="4419720" y="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1"/>
          <p:cNvSpPr/>
          <p:nvPr/>
        </p:nvSpPr>
        <p:spPr>
          <a:xfrm>
            <a:off x="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6324480" y="3124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 After Service &amp; Later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2819520" y="335268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Intro) Name, relation, service, over-vie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0" y="6172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traight Connector 8"/>
          <p:cNvSpPr/>
          <p:nvPr/>
        </p:nvSpPr>
        <p:spPr>
          <a:xfrm flipH="1">
            <a:off x="4419720" y="0"/>
            <a:ext cx="144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0"/>
          <p:cNvSpPr/>
          <p:nvPr/>
        </p:nvSpPr>
        <p:spPr>
          <a:xfrm flipH="1">
            <a:off x="4419720" y="3581280"/>
            <a:ext cx="144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27"/>
          <p:cNvSpPr/>
          <p:nvPr/>
        </p:nvSpPr>
        <p:spPr>
          <a:xfrm>
            <a:off x="6172200" y="304812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28"/>
          <p:cNvSpPr/>
          <p:nvPr/>
        </p:nvSpPr>
        <p:spPr>
          <a:xfrm>
            <a:off x="0" y="3048120"/>
            <a:ext cx="6324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0" y="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 Jogging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0"/>
          <p:cNvSpPr/>
          <p:nvPr/>
        </p:nvSpPr>
        <p:spPr>
          <a:xfrm>
            <a:off x="4419720" y="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1"/>
          <p:cNvSpPr/>
          <p:nvPr/>
        </p:nvSpPr>
        <p:spPr>
          <a:xfrm>
            <a:off x="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2"/>
          <p:cNvSpPr/>
          <p:nvPr/>
        </p:nvSpPr>
        <p:spPr>
          <a:xfrm>
            <a:off x="4419720" y="3048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 After Service &amp; Later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304920" y="457200"/>
            <a:ext cx="39621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you drafted or did you enli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were you living at th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did you jo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did you pick the service branch you jo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call your first days in serv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it feel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 me about your boot camp/training experi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member your instr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you get through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4419720" y="30492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war(s) did you serve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xactly did you g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member arriving and what it was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as your job/assig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see comb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there many casualties in your un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 me about a couple of your most memorable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you a prisoner of w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 me about your experiences in captivity and when fr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you awarded any medals or cit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you get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ranks may be asked about battle planning.  Those who sustained injuries may be asked about the circum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0" y="3657600"/>
            <a:ext cx="45720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questions about life in the service and/or at the front or under f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you stay in touch with your fami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as the food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have plenty of suppl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feel pressure or str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there something special you did for good lu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people entertain themsel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there entertain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do when on le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id you travel while in the serv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call any particularly humorous or unusual ev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ere some of the pranks that you or others would pu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have photo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think of officers or fellow soldi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keep a personal di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4419720" y="3352680"/>
            <a:ext cx="457200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priateness of questions will vary if the veteran had a military care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call the day your service ended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were you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do in the days and weeks afterward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work or go back to school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your education supported by the G.I. Bill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make any close friendships while in the servic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continue any of those relationship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o, for how long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join a vetera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’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organization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go on to do as a career after the war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r military experience influence your thinking about war or about the military in general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n a vetera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’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organization, what kinds of activities does your post or association hav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attend reunion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your service and experiences affect your lif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re anything you would like to add that we have not covered in this interview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2057400" y="6324480"/>
            <a:ext cx="22860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of wisdom/advice from the veteran to stud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2:18:45Z</dcterms:created>
  <dc:creator>Tammy</dc:creator>
  <dc:description/>
  <dc:language>en-US</dc:language>
  <cp:lastModifiedBy>Pam O'Risky</cp:lastModifiedBy>
  <dcterms:modified xsi:type="dcterms:W3CDTF">2013-10-15T16:57:27Z</dcterms:modified>
  <cp:revision>10</cp:revision>
  <dc:subject/>
  <dc:title>Slide 1</dc:title>
</cp:coreProperties>
</file>