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4ED3-D875-4F64-9B9A-186A19BCB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97CC-9314-43DB-A274-97BF7B51F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E4F2-E5DF-4033-9F66-FF95EA999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5EA3-2C49-44C2-9CCE-A6F9DB1B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7D9-CDEB-492C-B981-11909D2D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6C0-6E84-4F9C-B352-9E05D821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2A2-68D0-4F5F-B739-CB2DC6DD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09E-CAA2-4894-8B4D-008DD316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42B-EF4F-44E2-BDD3-106D9473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C09-8DE9-46F5-9AE4-C2CACC3F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E8B-64A0-401A-BE10-D88A732E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B19-0CE3-4E0C-8422-C49C8076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319-516C-4B97-9078-1F34E9BA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6BD-24C0-45F6-AD6E-3E739559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C68-BC87-4769-B5D3-88FF9FFA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1153-5907-4745-8F64-C6D82743D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819520" y="2590920"/>
            <a:ext cx="3504960" cy="99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8195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ter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 flipH="1">
            <a:off x="4343400" y="0"/>
            <a:ext cx="14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 flipH="1">
            <a:off x="4343400" y="3581280"/>
            <a:ext cx="14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7"/>
          <p:cNvSpPr/>
          <p:nvPr/>
        </p:nvSpPr>
        <p:spPr>
          <a:xfrm>
            <a:off x="6324480" y="31240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8"/>
          <p:cNvSpPr/>
          <p:nvPr/>
        </p:nvSpPr>
        <p:spPr>
          <a:xfrm>
            <a:off x="0" y="31240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9"/>
          <p:cNvSpPr/>
          <p:nvPr/>
        </p:nvSpPr>
        <p:spPr>
          <a:xfrm>
            <a:off x="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 Jogging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0"/>
          <p:cNvSpPr/>
          <p:nvPr/>
        </p:nvSpPr>
        <p:spPr>
          <a:xfrm>
            <a:off x="4419720" y="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1"/>
          <p:cNvSpPr/>
          <p:nvPr/>
        </p:nvSpPr>
        <p:spPr>
          <a:xfrm>
            <a:off x="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6324480" y="3124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fter Service &amp; Late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2819520" y="335268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Intro) Name, relation, service, over-vie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0" y="6172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traight Connector 8"/>
          <p:cNvSpPr/>
          <p:nvPr/>
        </p:nvSpPr>
        <p:spPr>
          <a:xfrm flipH="1">
            <a:off x="4419720" y="0"/>
            <a:ext cx="144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0"/>
          <p:cNvSpPr/>
          <p:nvPr/>
        </p:nvSpPr>
        <p:spPr>
          <a:xfrm flipH="1">
            <a:off x="4419720" y="3581280"/>
            <a:ext cx="144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27"/>
          <p:cNvSpPr/>
          <p:nvPr/>
        </p:nvSpPr>
        <p:spPr>
          <a:xfrm>
            <a:off x="6172200" y="304812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28"/>
          <p:cNvSpPr/>
          <p:nvPr/>
        </p:nvSpPr>
        <p:spPr>
          <a:xfrm>
            <a:off x="0" y="3048120"/>
            <a:ext cx="632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 Jogging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0"/>
          <p:cNvSpPr/>
          <p:nvPr/>
        </p:nvSpPr>
        <p:spPr>
          <a:xfrm>
            <a:off x="4419720" y="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>
            <a:off x="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2"/>
          <p:cNvSpPr/>
          <p:nvPr/>
        </p:nvSpPr>
        <p:spPr>
          <a:xfrm>
            <a:off x="4419720" y="3048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fter Service &amp; Late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304920" y="457200"/>
            <a:ext cx="39621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you drafted or did you enli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were you living at th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id you jo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id you pick the service branch you jo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call your first days in serv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it feel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me about your boot camp/training experi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member your instr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get through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4419720" y="30492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war(s) did you serve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xactly did you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member arriving and what it was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as your job/assig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see comb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there many casualties in your un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me about a couple of your most memorable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you a prisoner of w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me about your experiences in captivity and when fr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you awarded any medals or cit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get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ranks may be asked about battle planning.  Those who sustained injuries may be asked about the circum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0" y="3657600"/>
            <a:ext cx="45720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questions about life in the service and/or at the front or under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stay in touch with your fami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as the food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have plenty of suppl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feel pressure or str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there something special you did for good l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people entertain themsel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there entertain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do when on le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id you travel while in the serv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call any particularly humorous or unusual ev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ere some of the pranks that you or others would pu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photo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think of officers or fellow soldi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keep a personal di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4419720" y="3352680"/>
            <a:ext cx="457200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ness of questions will vary if the veteran had a military care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call the day your service ended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were you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do in the days and weeks afterward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work or go back to schoo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your education supported by the G.I. Bil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make any close friendships while in the servic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continue any of those relationship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o, for how long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join a vetera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’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organization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go on to do as a career after the war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r military experience influence your thinking about war or about the military in genera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n a vetera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’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organization, what kinds of activities does your post or association hav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attend reunion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r service and experiences affect your lif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anything you would like to add that we have not covered in this interview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2057400" y="6324480"/>
            <a:ext cx="2286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of wisdom/advice from the veteran to stud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2:18:45Z</dcterms:created>
  <dc:creator>Tammy</dc:creator>
  <dc:description/>
  <dc:language>en-US</dc:language>
  <cp:lastModifiedBy>Pam O'Risky</cp:lastModifiedBy>
  <dcterms:modified xsi:type="dcterms:W3CDTF">2013-10-15T16:57:27Z</dcterms:modified>
  <cp:revision>10</cp:revision>
  <dc:subject/>
  <dc:title>Slide 1</dc:title>
</cp:coreProperties>
</file>