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CF14-83E9-4AC4-8128-5E1D8DB1B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1BE9-FC9D-4F93-B0DF-D3B7B7579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53D-AA79-45F4-A5BA-1A15AB23D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9C8-B69F-4CD5-9447-388E07B9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F8F-D615-40D0-9B6C-30854B5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17D-D38D-4A60-8153-CA89AB22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30D-492F-4BAD-8F9E-1ADA1E3A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E91-DF12-4D74-BF4E-7339B74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C5D-3B54-4203-8D3D-9F4D26A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D32-2DF0-4130-8F94-90E646D4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722-0795-48C3-86E4-46CD3E2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E4C-C921-4756-A5EF-7512E9F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14D-5783-4DA5-905F-BE1242F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F3C-9D89-4B3B-917B-C5BA5AD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CAF-97A2-4206-A818-A361393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3D3-709E-4AD5-AFCE-2B68E3257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819520" y="2590920"/>
            <a:ext cx="3504960" cy="99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 flipH="1">
            <a:off x="4343400" y="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 flipH="1">
            <a:off x="4343400" y="358128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7"/>
          <p:cNvSpPr/>
          <p:nvPr/>
        </p:nvSpPr>
        <p:spPr>
          <a:xfrm>
            <a:off x="632448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8"/>
          <p:cNvSpPr/>
          <p:nvPr/>
        </p:nvSpPr>
        <p:spPr>
          <a:xfrm>
            <a:off x="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632448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819520" y="335268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ro) Name, relation, service, over-vie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traight Connector 8"/>
          <p:cNvSpPr/>
          <p:nvPr/>
        </p:nvSpPr>
        <p:spPr>
          <a:xfrm flipH="1">
            <a:off x="4419720" y="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0"/>
          <p:cNvSpPr/>
          <p:nvPr/>
        </p:nvSpPr>
        <p:spPr>
          <a:xfrm flipH="1">
            <a:off x="4419720" y="358128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6172200" y="304812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3048120"/>
            <a:ext cx="632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441972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04920" y="457200"/>
            <a:ext cx="3962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drafted or did you enli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 living at th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jo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pick the service branch you jo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your first days in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it feel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boot camp/training exper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your instr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roug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419720" y="304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war(s) did you ser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xactly did you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arriving and what it wa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job/assig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comb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many casualties in your un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a couple of your most memorab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 prisoner of w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experiences in captivity and when fr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warded any medals or cit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nks may be asked about battle planning.  Those who sustained injuries may be asked about the circum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0" y="3657600"/>
            <a:ext cx="457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questions about life in the service and/or at the front or under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stay in touch with your fami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the food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have plenty of suppl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feel pressure or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there something special you did for good l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people entertain themsel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entertain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when on le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travel while in the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any particularly humorous or unusual ev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some of the pranks that you or others would pu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photo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think of officers or fellow soldi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keep a personal di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4419720" y="3352680"/>
            <a:ext cx="45720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ness of questions will vary if the veteran had a military car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the day your service end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in the days and weeks afterwar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work or go back to schoo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your education supported by the G.I. Bil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any close friendships while in the servi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continue any of those relationship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, for how lo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jo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go on to do as a career after the wa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r military experience influence your thinking about war or about the military in gener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, what kinds of activities does your post or association hav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attend reunion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r service and experiences affect your lif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ything you would like to add that we have not covered in this interview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057400" y="6324480"/>
            <a:ext cx="2286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of wisdom/advice from the veteran to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3-10-15T16:57:27Z</dcterms:modified>
  <cp:revision>10</cp:revision>
  <dc:subject/>
  <dc:title>Slide 1</dc:title>
</cp:coreProperties>
</file>