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DCD-F3A0-4380-A73F-CAA9A528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BE8-690B-4299-901A-2A07DEB5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8B4-035E-41C1-B74B-C3EF8469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82C-5DCB-4306-B48C-7C4B4510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411-2F0D-4A14-8EC0-07EE6AD3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CB6-4EF6-4AB9-BFBB-93664D89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9DB-9F7A-45BE-A4D8-A83BA9FE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3D4-7FE4-4793-A496-2CECDC9F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F10-844B-4BD4-AAEE-C4802C25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C79-DDAD-4CA4-B7DD-8A4B83B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428-2544-4573-B9EB-A124469B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FFC-A2B4-426A-9049-67D6540D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9624-3F26-4F09-B43D-4EEACFDC0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0"/>
            <a:ext cx="4419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1 – Compare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 the two colleges you research.  This writing should be at least one-page in length.  Refer to pages 580 – 596 to help guide you on the proper way of organizing a compare/contrast es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495680" y="0"/>
            <a:ext cx="46483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2 – Letter t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letter to your first college requesting any information they could send you. Be sure to mention how much you like their school/basketball team, when you plan on graduating from high school, and the area you are interested in studying.  Refer to pages 793 – 794 in the book or to the websites linked from Mrs. O’Risky’s page to help with the format of a busines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358128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3 – Letter t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letter to your second college requesting any information they could send you. Be sure to mention how much you like their school/basketball team, when you plan on graduating from high school, and the area you are interested in studying.  Refer to pages 793 – 794 in the book or to the websites linked from Mrs. O’Risky’s page to help with the format of a busines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419720" y="38862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4 – Write an essay on which college you would prefer to attend (out of the two you researched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76720" y="3276720"/>
            <a:ext cx="2514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276720" y="33526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’t Forget to Use a 4-square to plan your writing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07Z</dcterms:created>
  <dc:creator>Pam O'Risky</dc:creator>
  <dc:description/>
  <dc:language>en-US</dc:language>
  <cp:lastModifiedBy>Pam O'Risky</cp:lastModifiedBy>
  <dcterms:modified xsi:type="dcterms:W3CDTF">2014-03-13T21:08:10Z</dcterms:modified>
  <cp:revision>3</cp:revision>
  <dc:subject/>
  <dc:title>Slide 1</dc:title>
</cp:coreProperties>
</file>