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6DA-44DD-421F-B7FA-D0A6870A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51B-BD44-423D-83C3-E1DE9EB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0E8-ECD4-4255-8415-4627A236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377-B47A-4E7D-9EA8-A11CB1B4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D19-C30B-4F53-AFDE-18D3878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950-688A-432B-955C-CD01DDE4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3AB-4E17-45F2-A78D-B97121F5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0BB-4341-4351-BB5A-C97B2CF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11B-CA0D-4A36-86B0-E281CBD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BDD-8F3C-43AE-9591-8F30ACE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DFB-F2D3-4364-A958-2E154C6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0FF-88E2-4D34-A41C-F638B42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0FDA-884E-40B8-B28A-B30F2B49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0"/>
            <a:ext cx="4419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1 – 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 the two colleges you research.  This writing should be at least one-page in length.  Refer to pages 580 – 596 to help guide you on the proper way of organizing a compare/contrast es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495680" y="0"/>
            <a:ext cx="46483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2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first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581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3 – Letter t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letter to your second college requesting any information they could send you. Be sure to mention how much you like their school/basketball team, when you plan on graduating from high school, and the area you are interested in studying.  Refer to pages 793 – 794 in the book or to the websites linked from Mrs. O’Risky’s page to help with the format of a busines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19720" y="3886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#4 – Write an essay on which college you would prefer to attend (out of the two you researched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6720" y="33526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Use a 4-square to plan your writing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07Z</dcterms:created>
  <dc:creator>Pam O'Risky</dc:creator>
  <dc:description/>
  <dc:language>en-US</dc:language>
  <cp:lastModifiedBy>Pam O'Risky</cp:lastModifiedBy>
  <dcterms:modified xsi:type="dcterms:W3CDTF">2014-03-13T21:08:10Z</dcterms:modified>
  <cp:revision>3</cp:revision>
  <dc:subject/>
  <dc:title>Slide 1</dc:title>
</cp:coreProperties>
</file>