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E2E-FE67-4250-A6BC-53BB0DF1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161-F9DB-4E9C-80E8-062692C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DF4-E91F-4893-BF44-A1682ABB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F3A-3136-4115-8D75-F6844013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9AB-A92A-4E2B-83D2-23425AD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F6A-275A-412B-9237-86FB223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4F5-1E2A-4470-8D7E-C1C43F7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3AF-CF0C-45CF-B150-568497A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8C0-5521-47C6-A243-02A8BA04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903-944B-4155-ABB7-7786AA8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F8E-9011-4F4D-B48D-C5F9AA0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BB5-FC31-4435-A4D0-8CDEA8A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5E5-62F8-42AB-AB3F-09CBFC55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1 – 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 the two colleges you research.  This writing should be at least one-page in length.  Refer to pages 580 – 596 to help guide you on the proper way of organizing a compare/contrast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495680" y="0"/>
            <a:ext cx="46483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2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first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581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3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second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19720" y="3886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4 – Write an essay on which college you would prefer to attend (out of the two you researched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6720" y="33526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Use a 4-square to plan your writing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07Z</dcterms:created>
  <dc:creator>Pam O'Risky</dc:creator>
  <dc:description/>
  <dc:language>en-US</dc:language>
  <cp:lastModifiedBy>Pam O'Risky</cp:lastModifiedBy>
  <dcterms:modified xsi:type="dcterms:W3CDTF">2014-03-13T21:08:10Z</dcterms:modified>
  <cp:revision>3</cp:revision>
  <dc:subject/>
  <dc:title>Slide 1</dc:title>
</cp:coreProperties>
</file>