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468-AA6B-417E-A907-DA6E2F65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7F3-CB86-475C-A2E9-A571A7CB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903-D03A-484E-9E43-397118A5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1CE-FB20-45BB-A381-5D5242FC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B65-DCFF-45C5-B412-313CE729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D96-4C27-4DDC-9C07-D906386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2CF-1909-4394-AF5B-BF1F41C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A33-5657-4C12-86B0-F6637C10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8F6-9E59-47C8-AF27-8278F0A5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4D8-864F-4121-915F-DE10BF9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F9B-EEF0-4C21-A732-BF89618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960-A2BD-49B8-BD96-66312D66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F4D5-DC46-4213-8A90-C064215F4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0"/>
            <a:ext cx="4419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1 – Compare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 the two colleges you research.  This writing should be at least one-page in length.  Refer to pages 580 – 596 to help guide you on the proper way of organizing a compare/contrast es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495680" y="0"/>
            <a:ext cx="46483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2 – Letter t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letter to your first college requesting any information they could send you. Be sure to mention how much you like their school/basketball team, when you plan on graduating from high school, and the area you are interested in studying.  Refer to pages 793 – 794 in the book or to the websites linked from Mrs. O’Risky’s page to help with the format of a busines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5812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3 – Letter t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letter to your second college requesting any information they could send you. Be sure to mention how much you like their school/basketball team, when you plan on graduating from high school, and the area you are interested in studying.  Refer to pages 793 – 794 in the book or to the websites linked from Mrs. O’Risky’s page to help with the format of a busines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19720" y="38862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4 – Write an essay on which college you would prefer to attend (out of the two you researched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276720" y="33526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’t Forget to Use a 4-square to plan your writing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07Z</dcterms:created>
  <dc:creator>Pam O'Risky</dc:creator>
  <dc:description/>
  <dc:language>en-US</dc:language>
  <cp:lastModifiedBy>Pam O'Risky</cp:lastModifiedBy>
  <dcterms:modified xsi:type="dcterms:W3CDTF">2014-03-13T21:08:10Z</dcterms:modified>
  <cp:revision>3</cp:revision>
  <dc:subject/>
  <dc:title>Slide 1</dc:title>
</cp:coreProperties>
</file>