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45B1-BD12-4D07-B994-FB638C91A8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1048-D317-48F1-ACFD-E5C04EF6D4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1973-D540-432E-A355-B4216193F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E44E-B75D-4720-B7EF-7A7BDA59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E0EE-8A48-4742-B580-1F24020E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9B7E-D94E-445B-B904-13912010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E479-6487-4402-8E5D-272DF331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BBA9-F33D-409E-B4CC-1108D1FB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4EC1-30B8-46A0-A2C2-E34715B2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117A-71EE-466E-BC84-15A0D3E5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70C9-B7D5-4C86-854A-CF4F6663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DE2A-3C64-4D8A-AEC0-12C1298C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6F34-2B5D-4D2B-8DBD-3857F30E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BFFF-A594-4BC9-AD61-6AD4A64B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2FF3-A6F8-4642-821A-A86B729F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FDC0-7B10-4AE9-85BA-BA52EAE5D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6248520" y="32115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9"/>
          <p:cNvSpPr/>
          <p:nvPr/>
        </p:nvSpPr>
        <p:spPr>
          <a:xfrm>
            <a:off x="0" y="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 General Schoo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0"/>
          <p:cNvSpPr/>
          <p:nvPr/>
        </p:nvSpPr>
        <p:spPr>
          <a:xfrm>
            <a:off x="11160" y="32767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 Acade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1"/>
          <p:cNvSpPr/>
          <p:nvPr/>
        </p:nvSpPr>
        <p:spPr>
          <a:xfrm>
            <a:off x="6934320" y="33195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  Campus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304920" y="457200"/>
            <a:ext cx="3962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 or Priv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gious affiliation if priv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addr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town/large t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school enroll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masco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t?  In-state tuition and out-of-state tu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76320" y="411480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ssion Requirements? (ACT, SAT scores, HS GP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ptance 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undergraduate progra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graduate progra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usual or well-known programs off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que opportunities for study?  (such as distance learning, online learning or study abroad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2438280" y="2590920"/>
            <a:ext cx="44197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3"/>
          <p:cNvSpPr/>
          <p:nvPr/>
        </p:nvSpPr>
        <p:spPr>
          <a:xfrm flipV="1">
            <a:off x="4267080" y="-360"/>
            <a:ext cx="0" cy="2590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17"/>
          <p:cNvSpPr/>
          <p:nvPr/>
        </p:nvSpPr>
        <p:spPr>
          <a:xfrm flipH="1" flipV="1">
            <a:off x="4376520" y="3962160"/>
            <a:ext cx="42840" cy="198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0"/>
          <p:cNvSpPr/>
          <p:nvPr/>
        </p:nvSpPr>
        <p:spPr>
          <a:xfrm>
            <a:off x="0" y="32004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2514600" y="2523960"/>
            <a:ext cx="43434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Introdu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ok: 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is: 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4697280" y="4267080"/>
            <a:ext cx="403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pus housing op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competitive sports are offered on campu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nt sports achiev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ness activities offered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0" y="5794200"/>
            <a:ext cx="914400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1490760" y="5788080"/>
            <a:ext cx="75769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te 4 main ideas.  (Example:  Murray State might be a small school with an interesting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isto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but it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cadem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variou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ampus lif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pportunities attract thousands of students to the school each year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you learn, find interesting, or offer opinion on the college you researched?  Would you like to go to college there?  What would you stu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2"/>
          <p:cNvSpPr/>
          <p:nvPr/>
        </p:nvSpPr>
        <p:spPr>
          <a:xfrm>
            <a:off x="11160" y="5794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.  Conclu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0"/>
          <p:cNvSpPr/>
          <p:nvPr/>
        </p:nvSpPr>
        <p:spPr>
          <a:xfrm>
            <a:off x="4376880" y="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1"/>
          <p:cNvSpPr/>
          <p:nvPr/>
        </p:nvSpPr>
        <p:spPr>
          <a:xfrm>
            <a:off x="4419720" y="457200"/>
            <a:ext cx="4419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as it foun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founded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college’s purpose at the begin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tudents were enrolled the first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traight Connector 27"/>
          <p:cNvSpPr/>
          <p:nvPr/>
        </p:nvSpPr>
        <p:spPr>
          <a:xfrm>
            <a:off x="6248520" y="32115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9"/>
          <p:cNvSpPr/>
          <p:nvPr/>
        </p:nvSpPr>
        <p:spPr>
          <a:xfrm>
            <a:off x="0" y="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 General Schoo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11160" y="32767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 Acade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6934320" y="33195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  Campus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2438280" y="2590920"/>
            <a:ext cx="44197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3"/>
          <p:cNvSpPr/>
          <p:nvPr/>
        </p:nvSpPr>
        <p:spPr>
          <a:xfrm flipV="1">
            <a:off x="4267080" y="-360"/>
            <a:ext cx="0" cy="2590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17"/>
          <p:cNvSpPr/>
          <p:nvPr/>
        </p:nvSpPr>
        <p:spPr>
          <a:xfrm flipH="1" flipV="1">
            <a:off x="4376520" y="3962160"/>
            <a:ext cx="42840" cy="198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20"/>
          <p:cNvSpPr/>
          <p:nvPr/>
        </p:nvSpPr>
        <p:spPr>
          <a:xfrm>
            <a:off x="0" y="32004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2514600" y="2523960"/>
            <a:ext cx="43434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Introdu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ok: 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is: 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0" y="5794200"/>
            <a:ext cx="914400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2"/>
          <p:cNvSpPr/>
          <p:nvPr/>
        </p:nvSpPr>
        <p:spPr>
          <a:xfrm>
            <a:off x="11160" y="5794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.  Conclu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0"/>
          <p:cNvSpPr/>
          <p:nvPr/>
        </p:nvSpPr>
        <p:spPr>
          <a:xfrm>
            <a:off x="4376880" y="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2:18:45Z</dcterms:created>
  <dc:creator>Tammy</dc:creator>
  <dc:description/>
  <dc:language>en-US</dc:language>
  <cp:lastModifiedBy>Pam O'Risky</cp:lastModifiedBy>
  <dcterms:modified xsi:type="dcterms:W3CDTF">2014-03-13T21:07:02Z</dcterms:modified>
  <cp:revision>21</cp:revision>
  <dc:subject/>
  <dc:title>Slide 1</dc:title>
</cp:coreProperties>
</file>