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CA75-15FA-405C-BF54-6BAC2CC3F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86DA-D1E2-4430-BB24-1A5562C38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4929-EC26-4506-90E2-2F1A0F654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2633-2EC4-474C-A299-D44EA093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38C-BF72-4937-9595-7464BC7C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DD3-C426-422A-BDDB-3DF20338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DE8-4155-4C24-8955-E58D298F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6F4-B0E2-4851-8F3B-ADA0E655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47F-459F-4B24-B770-C9E166CF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69C-06EE-4C29-91A6-6A7EC650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195-F0EC-4223-A8EE-F974317A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5650-1E43-4DB7-84AF-EE2EFD3B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0E6-4E91-46D7-A064-81159FF8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45B-08FC-47D4-94B7-D457B9B6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A60-CC34-4193-9199-1497D586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7EEB-D538-434F-8399-0E8AF80DE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6248520" y="3211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9"/>
          <p:cNvSpPr/>
          <p:nvPr/>
        </p:nvSpPr>
        <p:spPr>
          <a:xfrm>
            <a:off x="0" y="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General Scho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0"/>
          <p:cNvSpPr/>
          <p:nvPr/>
        </p:nvSpPr>
        <p:spPr>
          <a:xfrm>
            <a:off x="11160" y="3276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1"/>
          <p:cNvSpPr/>
          <p:nvPr/>
        </p:nvSpPr>
        <p:spPr>
          <a:xfrm>
            <a:off x="69343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 Campus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304920" y="45720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 or Priv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affiliation if priv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addr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town/large t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chool enroll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masc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?  In-state tuition and out-of-state tu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76320" y="41148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ssion Requirements? (ACT, SAT scores, HS GP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ptance 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undergraduate progr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graduate progr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usual or well-known programs off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que opportunities for study?  (such as distance learning, online learning or study abroad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2438280" y="2590920"/>
            <a:ext cx="4419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3"/>
          <p:cNvSpPr/>
          <p:nvPr/>
        </p:nvSpPr>
        <p:spPr>
          <a:xfrm flipV="1">
            <a:off x="4267080" y="-360"/>
            <a:ext cx="0" cy="259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7"/>
          <p:cNvSpPr/>
          <p:nvPr/>
        </p:nvSpPr>
        <p:spPr>
          <a:xfrm flipH="1" flipV="1">
            <a:off x="4376520" y="3962160"/>
            <a:ext cx="42840" cy="19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0" y="3200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2514600" y="2523960"/>
            <a:ext cx="43434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Introdu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k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is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4697280" y="4267080"/>
            <a:ext cx="403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pus housing op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mpetitive sports are offered on campu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 sports achie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ness activities offered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0" y="5794200"/>
            <a:ext cx="91440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1490760" y="5788080"/>
            <a:ext cx="75769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te 4 main ideas.  (Example:  Murray State might be a small school with an interest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ist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but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adem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variou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ampus lif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portunities attract thousands of students to the school each year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learn, find interesting, or offer opinion on the college you researched?  Would you like to go to college there?  What would you stu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2"/>
          <p:cNvSpPr/>
          <p:nvPr/>
        </p:nvSpPr>
        <p:spPr>
          <a:xfrm>
            <a:off x="11160" y="5794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 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0"/>
          <p:cNvSpPr/>
          <p:nvPr/>
        </p:nvSpPr>
        <p:spPr>
          <a:xfrm>
            <a:off x="4376880" y="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4419720" y="457200"/>
            <a:ext cx="4419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s it foun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found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college’s purpose at the begin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udents were enrolled the first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traight Connector 27"/>
          <p:cNvSpPr/>
          <p:nvPr/>
        </p:nvSpPr>
        <p:spPr>
          <a:xfrm>
            <a:off x="6248520" y="3211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0" y="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General Scho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11160" y="3276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9343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 Campus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2438280" y="2590920"/>
            <a:ext cx="4419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3"/>
          <p:cNvSpPr/>
          <p:nvPr/>
        </p:nvSpPr>
        <p:spPr>
          <a:xfrm flipV="1">
            <a:off x="4267080" y="-360"/>
            <a:ext cx="0" cy="259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17"/>
          <p:cNvSpPr/>
          <p:nvPr/>
        </p:nvSpPr>
        <p:spPr>
          <a:xfrm flipH="1" flipV="1">
            <a:off x="4376520" y="3962160"/>
            <a:ext cx="42840" cy="19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20"/>
          <p:cNvSpPr/>
          <p:nvPr/>
        </p:nvSpPr>
        <p:spPr>
          <a:xfrm>
            <a:off x="0" y="3200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2514600" y="2523960"/>
            <a:ext cx="43434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Introdu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k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is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5794200"/>
            <a:ext cx="91440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2"/>
          <p:cNvSpPr/>
          <p:nvPr/>
        </p:nvSpPr>
        <p:spPr>
          <a:xfrm>
            <a:off x="11160" y="5794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 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4376880" y="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2:18:45Z</dcterms:created>
  <dc:creator>Tammy</dc:creator>
  <dc:description/>
  <dc:language>en-US</dc:language>
  <cp:lastModifiedBy>Pam O'Risky</cp:lastModifiedBy>
  <dcterms:modified xsi:type="dcterms:W3CDTF">2014-03-13T21:07:02Z</dcterms:modified>
  <cp:revision>21</cp:revision>
  <dc:subject/>
  <dc:title>Slide 1</dc:title>
</cp:coreProperties>
</file>