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8F6-DB3D-479C-9CF6-0578E64C3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EDCE-25C2-400A-BA81-B3D866356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7F11-635B-46CD-8C24-8326A43D1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555-79A3-4FA0-9AA5-A5B61D84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855-DD84-4D13-8796-D4C74618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A12-FC14-4A95-9404-5C87DDBE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735-1CC7-4322-8262-5371FE12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74C-3528-41D8-8233-C971ED69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A80-EF50-46B7-AD75-1E158B9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3F5-26C1-41AA-960B-74915506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AD3-06E6-4DD0-AA85-9AAAAC1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329-FD5F-42ED-8415-2F25896E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C0B-46EE-4963-9176-90C3C952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41A-9147-4302-BD2A-015CEBB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561-9E67-4D80-B3E6-E756E8DF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21BF-E920-4386-B213-36E748E11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04920" y="45720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or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affiliation if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add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town/large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chool enroll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masc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?  In-state tuition and out-of-state 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76320" y="41148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ssion Requirements? (ACT, SAT scores, HS G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ptance 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under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or well-known programs off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que opportunities for study?  (such as distance learning, online learning or study abroa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97280" y="42670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us housing op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mpetitive sports are offered on campu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 sports achie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ss activities offered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490760" y="5788080"/>
            <a:ext cx="75769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4 main ideas.  (Example:  Murray State might be a small school with an interest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ade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riou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mpus 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portunities attract thousands of students to the school each yea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learn, find interesting, or offer opinion on the college you researched?  Would you like to go to college there?  What would you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419720" y="457200"/>
            <a:ext cx="4419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it fo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und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ollege’s purpose at the begin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udents were enrolled the first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4-03-13T21:07:02Z</dcterms:modified>
  <cp:revision>21</cp:revision>
  <dc:subject/>
  <dc:title>Slide 1</dc:title>
</cp:coreProperties>
</file>