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38CD-79D2-4F71-9F36-FD2907D48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70F-BA96-4A6B-A709-82E88C19D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EE9-9562-41CE-B1BC-DE128EE7A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A4C-0E0D-478D-A1E7-81F2636A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AE4-A31A-4233-80E6-A4D9351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B65-CCDB-4064-94A0-353E9E6A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CD8-CF8B-4425-AA9F-8305E079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EEE-B793-4075-8A6E-1CAB0C6A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6E4-DBCB-4782-8D42-D7C063E5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59E-FAA1-43AC-86E9-171FED3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DC1-195A-4D4A-B46B-7BFFD33C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2A8-8BE4-40EF-8149-3252C6D6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796-C461-4308-9162-4E77B58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BB6-F4E3-40F5-A07C-4B49AE5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067-946A-48E2-8AAB-FB7E434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FAB2-0281-42D4-9CBF-05D83891F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04920" y="45720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or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affiliation if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add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town/large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chool enroll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masc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?  In-state tuition and out-of-state 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76320" y="41148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ssion Requirements? (ACT, SAT scores, HS G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ptance 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under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or well-known programs off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que opportunities for study?  (such as distance learning, online learning or study abroa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97280" y="42670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us housing op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mpetitive sports are offered on campu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sports achie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ss activities offer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90760" y="5788080"/>
            <a:ext cx="75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4 main ideas.  (Example:  Murray State might be a small school with an interest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ade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riou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mpus 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portunities attract thousands of students to the school each yea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learn, find interesting, or offer opinion on the college you researched?  Would you like to go to college there?  What would you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419720" y="457200"/>
            <a:ext cx="4419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it fo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und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ollege’s purpose at the begin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udents were enrolled the first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4-03-13T21:07:02Z</dcterms:modified>
  <cp:revision>21</cp:revision>
  <dc:subject/>
  <dc:title>Slide 1</dc:title>
</cp:coreProperties>
</file>