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7E2-38F0-4A63-8CE5-874908AA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4AC-A1BC-41BA-BE65-92A6F06F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F7C-6A45-42A6-81ED-D625BF1D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A01-1F18-4047-BD81-A8F6AB77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A5A-9780-4CFE-9C27-1168481C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A3A-4533-46D7-94C7-A6140340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3EC-BF6D-4F13-824A-8917EBC3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76D7-F3CB-4E9D-B129-AAD80F41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06C-C64A-46D0-98BF-1BF938AE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DBA-D5BB-4CFC-89F8-3F526E73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AD2-6390-4E73-854C-FC5E52FE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060-720B-4E01-AC61-C44512DD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07CB-DE0C-4978-8EF5-9D8FF2798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3160" y="55440"/>
            <a:ext cx="6608520" cy="908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3:33:08Z</dcterms:created>
  <dc:creator>Family Room</dc:creator>
  <dc:description/>
  <dc:language>en-US</dc:language>
  <cp:lastModifiedBy>Family Room</cp:lastModifiedBy>
  <dcterms:modified xsi:type="dcterms:W3CDTF">2014-02-09T03:35:30Z</dcterms:modified>
  <cp:revision>1</cp:revision>
  <dc:subject/>
  <dc:title>Slide 1</dc:title>
</cp:coreProperties>
</file>