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692-1309-42F7-B5DE-B9852AF3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1D4-A5B8-4DA8-95CE-E7403887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65B-ADC8-4377-AF63-96FA0F65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B3A-0DA5-42B1-8397-73BD039F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57C-03AD-4669-BAB9-7F2EF9A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38B-A4B1-41E9-B14A-453B4EE1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B2E-0353-45A4-A3D8-AD184BB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3DF-214F-4592-9739-2B087FB0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3B6-16D9-4149-82E6-D2B68C93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FF7-D698-409F-B1A7-0274618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8A1-DE51-4071-8C06-7E0BECA1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191-1DF0-4B41-A264-551DF4A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D4A-289E-41E5-B42D-FB1F0D6A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55440"/>
            <a:ext cx="6608520" cy="90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3:33:08Z</dcterms:created>
  <dc:creator>Family Room</dc:creator>
  <dc:description/>
  <dc:language>en-US</dc:language>
  <cp:lastModifiedBy>Family Room</cp:lastModifiedBy>
  <dcterms:modified xsi:type="dcterms:W3CDTF">2014-02-09T03:35:30Z</dcterms:modified>
  <cp:revision>1</cp:revision>
  <dc:subject/>
  <dc:title>Slide 1</dc:title>
</cp:coreProperties>
</file>