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6F0-BC01-42F5-BF74-3B7F51EF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DE4-2C37-4991-95AF-C15FF10C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BEC-4770-496E-917E-4669FEF7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ACA-BBE2-4967-80CD-00CECFB8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E62-085F-4FA7-861D-F9998FD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F9E-03B7-4749-B7D1-C1D8627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DD0-558B-4ED9-B581-65D43CC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CB3-463C-43D9-8C1B-4D59275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D1B-83F9-4236-A8AA-F378B22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070-0DE0-4052-8BB5-CC3278C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808-D44C-4F0E-9735-82B068E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F37-D57A-4F04-A7A4-539BD17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C50-8C1D-44FF-AB10-8548E955F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55440"/>
            <a:ext cx="6608520" cy="90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3:33:08Z</dcterms:created>
  <dc:creator>Family Room</dc:creator>
  <dc:description/>
  <dc:language>en-US</dc:language>
  <cp:lastModifiedBy>Family Room</cp:lastModifiedBy>
  <dcterms:modified xsi:type="dcterms:W3CDTF">2014-02-09T03:35:30Z</dcterms:modified>
  <cp:revision>1</cp:revision>
  <dc:subject/>
  <dc:title>Slide 1</dc:title>
</cp:coreProperties>
</file>