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148-CB11-4280-87CE-D0A47207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48D-EEA1-4F9A-9BDA-CCC84759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7AD-ACB9-450B-95F6-9D2990ED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50E-7E5A-4A69-9C7C-CA703F5B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B80-EBF2-482E-A210-7422021C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E5A-48BE-4A95-B956-BAFC3A03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1AC-9E33-47EE-B9DF-F61904CD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08D-BCAD-4ECF-A55E-7B8AD598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7EE-E18F-4FBB-9F3D-58010D7B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7A2-1FF0-45B9-9CBA-C03936D6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859-BF33-467C-A222-7C30867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E2A-91FC-4EA1-B983-A36550DE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6658-48BA-4F08-8221-21840E4A4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3160" y="55440"/>
            <a:ext cx="6608520" cy="908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3:33:08Z</dcterms:created>
  <dc:creator>Family Room</dc:creator>
  <dc:description/>
  <dc:language>en-US</dc:language>
  <cp:lastModifiedBy>Family Room</cp:lastModifiedBy>
  <dcterms:modified xsi:type="dcterms:W3CDTF">2014-02-09T03:35:30Z</dcterms:modified>
  <cp:revision>1</cp:revision>
  <dc:subject/>
  <dc:title>Slide 1</dc:title>
</cp:coreProperties>
</file>