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1CE-5C10-4A85-8354-F5AE8CC3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7BC-6CCC-4BB6-BFAE-7568ABA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655-0243-41C5-B27D-BEFA6137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793-CC5E-442F-9EDB-580109C6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D10-18EC-4A94-B260-06AC156C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217-B7E1-4763-ACCE-8DC1A89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D2A-08B6-4FA8-8393-39E53F1C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18E-B3CF-4032-83FE-68BC603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B7E-E0C6-4C48-91B0-94231DC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66A-A1C7-4D0D-9B89-6A800C6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EB6-D7C3-44D6-8DB9-2A0DAFDC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EC7-B147-4D49-B99B-299B0830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D501-B901-458F-AC4E-537C8F9D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55440"/>
            <a:ext cx="6608520" cy="908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3:33:08Z</dcterms:created>
  <dc:creator>Family Room</dc:creator>
  <dc:description/>
  <dc:language>en-US</dc:language>
  <cp:lastModifiedBy>Family Room</cp:lastModifiedBy>
  <dcterms:modified xsi:type="dcterms:W3CDTF">2014-02-09T03:35:30Z</dcterms:modified>
  <cp:revision>1</cp:revision>
  <dc:subject/>
  <dc:title>Slide 1</dc:title>
</cp:coreProperties>
</file>