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A33-BAEE-4E85-B39B-2982B59A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E47-D990-402B-973E-D87A65FB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523-7320-4C34-9250-8FA313ED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283-C7B1-4F44-AA56-98054A03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30C-7AFA-4D59-B9CE-6E7CF3D9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4A7-1063-462D-A7A2-BD901FAC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D88-357D-4CCB-B5C2-263FE826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AB8-7675-4CF2-B68D-924B39B9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5F8-F762-4AE6-B984-F3097219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0DA-B703-4129-AD13-1FEF20A2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3D4-4E0A-4122-A658-CDC79E8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C09-AF1F-4BC3-A822-BA2C797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30E-079C-4B16-8EA9-6642C8392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3160" y="55440"/>
            <a:ext cx="6608520" cy="908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8240" y="0"/>
            <a:ext cx="671976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3:33:08Z</dcterms:created>
  <dc:creator>Family Room</dc:creator>
  <dc:description/>
  <dc:language>en-US</dc:language>
  <cp:lastModifiedBy>Family Room</cp:lastModifiedBy>
  <dcterms:modified xsi:type="dcterms:W3CDTF">2014-02-09T03:35:30Z</dcterms:modified>
  <cp:revision>1</cp:revision>
  <dc:subject/>
  <dc:title>Slide 1</dc:title>
</cp:coreProperties>
</file>