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B45-9FAB-4D0C-8215-3C7F0464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414-9DBB-495A-8E9A-99738D2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C3F-2A0F-4006-8AEC-E38D8C7C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361-94D8-4589-9885-A80ADD27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549-04B2-4FB4-8934-B0E07EE1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7FC-2666-458A-B02A-DECB2B3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146-9F35-4689-86A3-8677598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3E3-B1B6-48D5-8059-9467F1B2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492-E8D8-4A49-AD7D-31919FF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B99-468E-4F8E-9876-BE2EF17B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1BF-BB83-43FB-A4D9-0B74551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D08-66EB-47C5-B4FF-A202513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F009-2A6A-4484-BCFF-41DCC2E64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6320" y="5943600"/>
            <a:ext cx="562572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am, from Florida, took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 in the Na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year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0152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8280"/>
            <a:ext cx="8001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6:26:00Z</dcterms:created>
  <dc:creator>Family Room</dc:creator>
  <dc:description/>
  <dc:language>en-US</dc:language>
  <cp:lastModifiedBy>Family Room</cp:lastModifiedBy>
  <dcterms:modified xsi:type="dcterms:W3CDTF">2014-03-15T16:47:36Z</dcterms:modified>
  <cp:revision>3</cp:revision>
  <dc:subject/>
  <dc:title>Slide 1</dc:title>
</cp:coreProperties>
</file>