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B78-4AAD-4F7C-83E3-9AA9BFCF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931-ED98-4C7D-BE6B-332DE08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63D-9776-4CC7-AD5F-3C6129F3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FD4-EE99-487D-A61A-02376819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E7C-66C1-4C65-A097-5C9E9D81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022-B458-433D-B83F-8EAAD26B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D68-CCD2-47C6-9F6F-93CE964A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501-E63B-4809-BAEB-E75EE4EA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5F3-8EE0-4269-9077-3FDC881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CBE-56FE-4A26-AB88-ACCE0D2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7D1-EDC5-4AD3-97F0-7855AFF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601-29BB-4275-8C19-8895527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CEFF-585A-4E75-B9F2-FD7D607C1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6320" y="5943600"/>
            <a:ext cx="562572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am, from Florida, took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 in the Na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year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0152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8280"/>
            <a:ext cx="8001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6:26:00Z</dcterms:created>
  <dc:creator>Family Room</dc:creator>
  <dc:description/>
  <dc:language>en-US</dc:language>
  <cp:lastModifiedBy>Family Room</cp:lastModifiedBy>
  <dcterms:modified xsi:type="dcterms:W3CDTF">2014-03-15T16:47:36Z</dcterms:modified>
  <cp:revision>3</cp:revision>
  <dc:subject/>
  <dc:title>Slide 1</dc:title>
</cp:coreProperties>
</file>