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9931-CEDE-4581-B2E9-9817296C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6848-4856-42C4-A087-BBA80F85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F4AF-4C04-4B45-8F79-3834949E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D6BB-7846-4834-81BF-F78CEF9D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0129-1DC6-48E6-BFAA-B4E434E1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290A-2E8B-4C33-A9DB-0869C53B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D5DB-8CFB-4F4F-A23A-DE3002FB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D013-CE3F-4668-9A06-1E33C239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1539-B078-498D-9AB5-898B220B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3145-0963-404D-B756-6221CCC4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3070-2648-4A18-B777-22B32178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4BC5-4451-48D4-AA84-B980A0E4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08E0-FCBC-4CED-84A4-1DF35DF2D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136320" y="5943600"/>
            <a:ext cx="5625720" cy="64260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eam, from Florida, took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ace in the Natio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year (20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101520"/>
            <a:ext cx="9144000" cy="67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98280"/>
            <a:ext cx="800100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6:26:00Z</dcterms:created>
  <dc:creator>Family Room</dc:creator>
  <dc:description/>
  <dc:language>en-US</dc:language>
  <cp:lastModifiedBy>Family Room</cp:lastModifiedBy>
  <dcterms:modified xsi:type="dcterms:W3CDTF">2014-03-15T16:47:36Z</dcterms:modified>
  <cp:revision>3</cp:revision>
  <dc:subject/>
  <dc:title>Slide 1</dc:title>
</cp:coreProperties>
</file>