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7F8-A31B-4164-BA6E-D22552DF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ECD-0D86-4509-937A-0F3D8074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1CA-F552-443C-8C96-864F4E7B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069-BD62-46E3-871B-652FA371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FAFD-297C-4575-88F2-02F1C20E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9D5-EA79-4D43-A7D2-2C762BF6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303-CBD6-4EAF-9E4A-BBCDDE31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E6D-0D3C-4B8F-9016-9D248E74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050-5958-45E4-AECA-21467671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342-CD86-4E42-B2B7-C2FCDE23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787-ADFE-4EF8-ABA2-71EE30BD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6F7-2AB2-411A-B619-3AE616A4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9941-4691-4F0E-B194-CD2E0E1F7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36320" y="5943600"/>
            <a:ext cx="5625720" cy="64260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eam, from Florida, took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 in the Nat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year (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01520"/>
            <a:ext cx="9144000" cy="67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98280"/>
            <a:ext cx="80010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6:26:00Z</dcterms:created>
  <dc:creator>Family Room</dc:creator>
  <dc:description/>
  <dc:language>en-US</dc:language>
  <cp:lastModifiedBy>Family Room</cp:lastModifiedBy>
  <dcterms:modified xsi:type="dcterms:W3CDTF">2014-03-15T16:47:36Z</dcterms:modified>
  <cp:revision>3</cp:revision>
  <dc:subject/>
  <dc:title>Slide 1</dc:title>
</cp:coreProperties>
</file>