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5E19-AE48-4848-B627-4323CC5DD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CF56-8C4F-4E2C-836E-F84F2C37B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AE1A-35D3-4C57-B8BA-2E6FC34D5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CFE7-C2F2-4CEF-936A-65B11CE68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17B4-D4B3-4396-9DF4-C22756EFE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60F7-3C5A-45BA-9CA8-8C8BB3683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8592-385B-4C45-ABC0-96E03FC40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DDEA-DAFE-4A79-8F41-1927CC8DA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0CB2-A3F0-4B31-9675-B4392CB2D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BA69-503F-43C0-9D19-269D0BE1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5DD9-F5F8-4BD7-B4F1-A38A7F35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A560-5F9F-47C9-85E5-15C8E8E1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95779-0121-446F-B3C9-B6BC75088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136320" y="5943600"/>
            <a:ext cx="5625720" cy="642600"/>
          </a:xfrm>
          <a:prstGeom prst="rect">
            <a:avLst/>
          </a:prstGeom>
          <a:solidFill>
            <a:srgbClr val="ffffff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team, from Florida, took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lace in the Natio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 year (20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101520"/>
            <a:ext cx="9144000" cy="672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3520" y="98280"/>
            <a:ext cx="8001000" cy="660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5T16:26:00Z</dcterms:created>
  <dc:creator>Family Room</dc:creator>
  <dc:description/>
  <dc:language>en-US</dc:language>
  <cp:lastModifiedBy>Family Room</cp:lastModifiedBy>
  <dcterms:modified xsi:type="dcterms:W3CDTF">2014-03-15T16:47:36Z</dcterms:modified>
  <cp:revision>3</cp:revision>
  <dc:subject/>
  <dc:title>Slide 1</dc:title>
</cp:coreProperties>
</file>