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276F-E4B1-44BF-A76E-DED17466A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76E4-1C46-450F-821B-2D9C2574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3387-D594-4C67-88D8-888AD865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143C-7E3C-420D-90C1-B26D42406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40B5-97C0-404F-BED1-F10C63D1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FDC2-8091-48E5-8F08-B0B0F859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058E-EFBE-4291-86CC-639D70A8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8898-BF49-4EB2-A5F3-E0929D00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5190-96EF-4A37-8CCF-9E0CED6D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A4EF-5D04-40EF-A2E3-38D59A4E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7DD5-C7E3-4C36-8EB4-BFD362B4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21CC-43D3-43F3-930C-426ABF7B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237F-FE40-4E42-A641-33F5F2B99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136320" y="5943600"/>
            <a:ext cx="5625720" cy="64260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team, from Florida, took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lace in the Natio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year (20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101520"/>
            <a:ext cx="9144000" cy="672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98280"/>
            <a:ext cx="8001000" cy="660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6:26:00Z</dcterms:created>
  <dc:creator>Family Room</dc:creator>
  <dc:description/>
  <dc:language>en-US</dc:language>
  <cp:lastModifiedBy>Family Room</cp:lastModifiedBy>
  <dcterms:modified xsi:type="dcterms:W3CDTF">2014-03-15T16:47:36Z</dcterms:modified>
  <cp:revision>3</cp:revision>
  <dc:subject/>
  <dc:title>Slide 1</dc:title>
</cp:coreProperties>
</file>