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jpeg" ContentType="image/jpeg"/>
  <Override PartName="/ppt/media/buzzthru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00E1-A68C-4000-AC5D-1A72EBA07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39FE-05CF-4084-98DA-6466545B88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655A-6652-4E04-B57B-0615A65B23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D75B-983A-4D00-B3EA-54D4E65454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35BE-A72F-432E-B55F-098BA27BF8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0346-757E-4CF6-BC71-0AE64B2925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D828-1293-4D96-9849-0DF7B49343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522B-FBDE-4FA4-A3FC-6B7A522508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AD41-BA5D-4B83-97D0-BD9E205DBE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0FF6-9AB9-40C4-8911-E82C80E140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E259-32C6-4310-90EC-8E23FB3C16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CCA8-8908-4E0C-8CD9-56C4FA75B7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1725-92C0-4DA1-BB17-99D4EBA80F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1A69-8098-4014-9107-18DD945CD3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ECD-DFE3-429E-BC32-74FE1104F8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958A-B7DB-409C-8395-9222B41924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CD9-E653-46D1-A99E-8B83A76E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23F-B2F7-44A0-AEFE-F335135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70A-5142-43F9-BE09-1E366640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319-2D54-4B3E-8565-9145DB6B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BDB55-D78A-456F-8AD7-A1873472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C464C-64CD-46EA-8529-0BF8E89C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2BF06-6C22-43B5-8922-83844392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F5E99-1896-4883-8D32-A8960357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A3E41-06D1-4638-9CFE-819E4FD1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F0060-A5E4-43CC-8B73-B3266A0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14ED4-60BC-4BF6-A355-07982194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FA9-C1A3-4FC8-8429-50DA7ADE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FAD6A-FDF2-4D7C-BA2C-B9C59512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0CB8F-E945-4145-A7FA-CDAC771E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DDDDB-087A-49DD-B0A1-BD395B28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CD8C4-0FF2-4773-B4DC-E6F697D4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A89CC-1695-4E20-B58A-B0C82CF4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3D43-9734-4722-9EC7-B610502C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9796-C232-411B-84D2-11BA0AC5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E290-6315-4066-BEC4-4DCBFDFA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5755-A353-4E61-AC05-BC812C71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7768-6D35-451F-A8ED-79A20625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D62-62F7-48C1-BBFC-E43E832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BC84-0BA1-4C23-B96A-9426B4B7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87F0-6F23-4385-8EB2-B27298D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DF18-A43E-4CF2-A6C6-06ED062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87FAC-1B54-4C3C-AAF6-006D6B10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7AD4-E86E-4851-8553-E1D5C784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12B2-F1F6-472D-9E98-6D1A57A0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0417-9F45-48B8-9154-A674BA56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ECE0-D54D-4BED-9A20-F51376CF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9239-E13A-4AC1-9792-6102BB17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B040C-056E-4865-B314-413D4895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881-A199-4824-B98B-A4A7E4E5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0AD5F-1E91-4231-9434-476AE085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85106-B99E-4234-BBA3-CED3684D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9F0D-C33B-43B1-9108-8237DB47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531F-DAB2-42ED-A491-6521513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7FEC0-5561-4A57-9AF3-CB562610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566BC-6E90-401A-A404-837A9008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FE9A-60E9-4D4A-BC23-30B94C8A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CFE5-12FE-45E0-99BC-54313FD1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D5EC-5512-4EC7-80CC-1B6F136F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34CB4-3DDB-4AA4-986C-38D9AD5A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C1D-5A66-4D76-B027-5B3E0526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0DDE-C8C7-4594-B980-61B592FB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BEB4-A251-49E0-8345-26499970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B7B96-9BE2-43A9-A679-C6BA4908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B7A99-16C0-4BEE-9144-29FF9B84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A0CB-C4D8-4C5A-BD04-DEFC0A94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3980-0A0D-4B11-AE8D-6CED3FC9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CE4D1-4987-4383-A31A-4EDD7D8F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62171-9962-4DF6-B94A-A5D60AA6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FB7D5-4753-4CEE-A9BA-4437A9C6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CD2F-03F4-4B1B-9700-E867DDD0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B95-6849-4246-B71C-92901E1E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8A810-5FEE-494A-BA76-31995250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11014-A3EE-48CF-835C-5D8DE913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D15B-8F3D-4B34-8F9C-21E0229F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85471-5A19-4BDC-801C-E0161B0C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EB2D2-11CA-4C24-B544-454F9908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503AA-B33B-4DA2-B4B5-F7C0DAD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82AB-8744-4DEA-A264-7E2EC5FC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D9869-9AC7-4647-8FBF-4BF6055E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37599-D865-4235-A151-96CC57C1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AF93C-E4AC-4E9E-9051-1FA8B133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111-A3D8-4C67-B7DD-FF7A223E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B24A0-FDDB-430B-AC3E-4749AE15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27D2D-B964-43D9-B592-E621F5AA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E5BC-1B1C-4F73-A9FF-0D548069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8679B-E9A9-4B72-81E9-FA9BE1CD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B63BC-E676-4F79-9568-BC5AE8D4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DB139-3081-4D6A-8D56-E0164DB8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D86F-77F7-4703-A426-2E50193C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3B0F5-9A7B-45CE-836E-B76FAEE2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F8320-3D0F-4DBD-82D0-3296903C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DBC40-9E1D-4E4F-A9FF-24EC38FE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CCC-347E-40B2-921C-898F01F7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F4E44-F1EB-4F6A-81C4-000523C1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4F08C-8DBE-48C6-A64B-D773F9A2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BA126-66CA-48DA-B9FC-7DBC01EB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374C5-DF52-4C84-9F2B-7075D0DF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02E05-7F7C-4E77-A941-B9265FD8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E2FA-8C18-4B4E-9053-805FEB24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BB2BF-A3FB-4421-B527-867624C6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B9CE1-6790-4165-9B8F-29C8BE46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3E84C-3C1D-4DD1-AD9F-90F45715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3C29A-A6B7-4CB8-BA4A-926A35E1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FAF-C57E-4A49-95D0-B90B76A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46046-E7DF-4744-B35F-5D2D3134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ECB62-445E-43AF-82AF-33416DA4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309C-D90D-48D1-932C-579355E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ED8A4-DFAE-46D8-BA40-E2D2B280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F3A2-D1CC-450A-B796-65F12F0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E8CC-EDC7-4B76-9056-372481BD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55435-4311-4D26-9608-0C02EA11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1ADA-439B-4E70-9E69-480E1447137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C2D1-3B0A-419E-B36C-941781F27D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113B-0E6B-4A90-8E09-35D06887F4A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D23B-17D5-4461-ABA9-890ABED95DE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F3A-3593-41BB-8991-EBE84259EC3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776C-76BA-4912-9272-4A855814339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29" name="Straight Connector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Straight Connector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Straight Connector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33" name="Straight Connector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Straight Connector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37" name="Straight Connector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Straight Connector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Straight Connector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A2B4-C84F-4A77-8373-E5A83378012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8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7DD1-7051-48FB-B623-D2E501685C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uzzthru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1eeff"/>
                </a:solidFill>
                <a:latin typeface="Teen"/>
              </a:rPr>
              <a:t>All About Abe…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56240" y="27428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Illinois’ 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Favorite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9e7ff"/>
                </a:solidFill>
                <a:latin typeface="Teen"/>
              </a:rPr>
              <a:t>Son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2" descr="C:\Users\Mom\AppData\Local\Microsoft\Windows\Temporary Internet Files\Content.IE5\2IN7XX57\MCj00926710000[1].wmf"/>
          <p:cNvPicPr/>
          <p:nvPr/>
        </p:nvPicPr>
        <p:blipFill>
          <a:blip r:embed="rId1"/>
          <a:stretch/>
        </p:blipFill>
        <p:spPr>
          <a:xfrm>
            <a:off x="1062000" y="2514600"/>
            <a:ext cx="2844720" cy="378144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9">
            <a:hlinkClick r:id="" action="ppaction://hlinkshowjump?jump=nextslide"/>
          </p:cNvPr>
          <p:cNvSpPr/>
          <p:nvPr/>
        </p:nvSpPr>
        <p:spPr>
          <a:xfrm>
            <a:off x="77724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16200" y="62881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deff"/>
                </a:solidFill>
                <a:latin typeface="Arial"/>
              </a:rPr>
              <a:t>By Cathy Behr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761760" y="3733560"/>
            <a:ext cx="7597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2666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Jan. 23, 1863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90360" y="3809880"/>
            <a:ext cx="7140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6500"/>
            </a:br>
            <a:r>
              <a:rPr b="0" lang="en-US" sz="6500" spc="-1" strike="noStrike">
                <a:solidFill>
                  <a:srgbClr val="b7deff"/>
                </a:solidFill>
                <a:latin typeface="Teen"/>
              </a:rPr>
              <a:t>John Wilkes Booth</a:t>
            </a:r>
            <a:endParaRPr b="0" lang="en-US" sz="6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4386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Ford's Theatre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Subtitle 4"/>
          <p:cNvSpPr/>
          <p:nvPr/>
        </p:nvSpPr>
        <p:spPr>
          <a:xfrm>
            <a:off x="914400" y="373392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838080" y="3809520"/>
            <a:ext cx="7445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</a:t>
            </a:r>
            <a:br>
              <a:rPr sz="7900"/>
            </a:b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Springfield, IL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7445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2009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1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1eeff"/>
                </a:solidFill>
                <a:latin typeface="Teen"/>
              </a:rPr>
              <a:t>Your Assignment: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38080" y="2590560"/>
            <a:ext cx="7467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deff"/>
                </a:solidFill>
                <a:latin typeface="Teen"/>
              </a:rPr>
              <a:t>Click here and make up 2 more questions on Mr. Lincoln</a:t>
            </a:r>
            <a:r>
              <a:rPr b="0" lang="en-US" sz="4800" spc="-1" strike="noStrike">
                <a:solidFill>
                  <a:srgbClr val="ffffff"/>
                </a:solidFill>
                <a:latin typeface="Teen"/>
              </a:rPr>
              <a:t> </a:t>
            </a:r>
            <a:r>
              <a:rPr b="0" lang="en-US" sz="4800" spc="-1" strike="noStrike">
                <a:solidFill>
                  <a:srgbClr val="b7deff"/>
                </a:solidFill>
                <a:latin typeface="Teen"/>
              </a:rPr>
              <a:t>from the website information.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AutoShape 9">
            <a:hlinkClick r:id="" action="ppaction://hlinkshowjump?jump=endshow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AutoShape 9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342900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How many children did Lincoln have? </a:t>
            </a:r>
            <a:br>
              <a:rPr sz="32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286000" y="60948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e7ff"/>
                </a:solidFill>
                <a:latin typeface="Teen"/>
              </a:rPr>
              <a:t>Where was Lincoln born?</a:t>
            </a:r>
            <a:r>
              <a:rPr b="0" lang="en-US" sz="40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 Kentuck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 Indian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 Illino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9" descr="C:\Users\Mom\AppData\Local\Microsoft\Windows\Temporary Internet Files\Content.IE5\2IN7XX57\MCj03703900000[1].wmf"/>
          <p:cNvPicPr/>
          <p:nvPr/>
        </p:nvPicPr>
        <p:blipFill>
          <a:blip r:embed="rId4"/>
          <a:stretch/>
        </p:blipFill>
        <p:spPr>
          <a:xfrm>
            <a:off x="838080" y="1066680"/>
            <a:ext cx="1447920" cy="1979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C:\Users\Mom\AppData\Local\Microsoft\Windows\Temporary Internet Files\Content.IE5\5K0H2S4K\MCj03246240000[1].wmf"/>
          <p:cNvPicPr/>
          <p:nvPr/>
        </p:nvPicPr>
        <p:blipFill>
          <a:blip r:embed="rId5"/>
          <a:stretch/>
        </p:blipFill>
        <p:spPr>
          <a:xfrm>
            <a:off x="6019920" y="4495680"/>
            <a:ext cx="1822320" cy="116532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9"/>
          <p:cNvSpPr/>
          <p:nvPr/>
        </p:nvSpPr>
        <p:spPr>
          <a:xfrm>
            <a:off x="1905120" y="4800600"/>
            <a:ext cx="289548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8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647712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3-Which number President was Lincoln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95120" y="18288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33520" y="3505320"/>
            <a:ext cx="8161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e7ff"/>
                </a:solidFill>
                <a:latin typeface="Teen"/>
              </a:rPr>
              <a:t>4-When did Lincoln issue the Emancipatio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e7ff"/>
                </a:solidFill>
                <a:latin typeface="Teen"/>
              </a:rPr>
              <a:t>Proclamation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6" name="Picture 2" descr="C:\Users\Mom\AppData\Local\Microsoft\Windows\Temporary Internet Files\Content.IE5\X0QAMAIZ\MCj01498810000[1].wmf"/>
          <p:cNvPicPr/>
          <p:nvPr/>
        </p:nvPicPr>
        <p:blipFill>
          <a:blip r:embed="rId4"/>
          <a:stretch/>
        </p:blipFill>
        <p:spPr>
          <a:xfrm>
            <a:off x="6629400" y="1371600"/>
            <a:ext cx="1708200" cy="13716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C:\Users\Mom\AppData\Local\Microsoft\Windows\Temporary Internet Files\Content.IE5\2IN7XX57\MPj04222370000[1].jpg"/>
          <p:cNvPicPr/>
          <p:nvPr/>
        </p:nvPicPr>
        <p:blipFill>
          <a:blip r:embed="rId5"/>
          <a:stretch/>
        </p:blipFill>
        <p:spPr>
          <a:xfrm>
            <a:off x="990720" y="4572000"/>
            <a:ext cx="1834920" cy="13716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"/>
          <p:cNvSpPr/>
          <p:nvPr/>
        </p:nvSpPr>
        <p:spPr>
          <a:xfrm>
            <a:off x="3429000" y="4800600"/>
            <a:ext cx="38862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July 4, 17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Jan. 23, 18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9" action="ppaction://hlinksldjump"/>
              </a:rPr>
              <a:t> December 25, 19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5-Who assassinated President Lincoln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8120" y="1294920"/>
            <a:ext cx="40384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1" action="ppaction://hlinksldjump"/>
              </a:rPr>
              <a:t>George Bus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2" action="ppaction://hlinksldjump"/>
              </a:rPr>
              <a:t>Andrew Johns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9920" indent="-46764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3" action="ppaction://hlinksldjump"/>
              </a:rPr>
              <a:t>John Wilkes Boo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7720" y="3352320"/>
            <a:ext cx="4876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de1ff"/>
                </a:solidFill>
                <a:latin typeface="Corbel"/>
              </a:rPr>
              <a:t>6-Where was Lincoln assassinated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4" name="Picture 2" descr="C:\Users\Mom\AppData\Local\Microsoft\Windows\Temporary Internet Files\Content.IE5\5K0H2S4K\MCj02309290000[1].wmf"/>
          <p:cNvPicPr/>
          <p:nvPr/>
        </p:nvPicPr>
        <p:blipFill>
          <a:blip r:embed="rId4"/>
          <a:stretch/>
        </p:blipFill>
        <p:spPr>
          <a:xfrm>
            <a:off x="685800" y="1447920"/>
            <a:ext cx="2293920" cy="1288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Users\Mom\AppData\Local\Microsoft\Windows\Temporary Internet Files\Content.IE5\X0QAMAIZ\MPj04331120000[1].jpg"/>
          <p:cNvPicPr/>
          <p:nvPr/>
        </p:nvPicPr>
        <p:blipFill>
          <a:blip r:embed="rId5"/>
          <a:stretch/>
        </p:blipFill>
        <p:spPr>
          <a:xfrm>
            <a:off x="6705720" y="4114800"/>
            <a:ext cx="1827000" cy="13716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8"/>
          <p:cNvSpPr/>
          <p:nvPr/>
        </p:nvSpPr>
        <p:spPr>
          <a:xfrm>
            <a:off x="2209680" y="4724280"/>
            <a:ext cx="41148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6" action="ppaction://hlinksldjump"/>
              </a:rPr>
              <a:t> Ford’s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7" action="ppaction://hlinksldjump"/>
              </a:rPr>
              <a:t> Chevrolet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Teen"/>
                <a:hlinkClick r:id="rId8" action="ppaction://hlinksldjump"/>
              </a:rPr>
              <a:t> Madison Thea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9">
            <a:hlinkClick r:id="" action="ppaction://hlinkshowjump?jump=nextslide"/>
          </p:cNvPr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5126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Teen"/>
              </a:rPr>
              <a:t>7-Where is Lincoln buried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8080" y="1295280"/>
            <a:ext cx="472464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Washington, D. 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New York City, N. Y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e7ff"/>
                </a:solidFill>
                <a:latin typeface="Teen"/>
              </a:rPr>
              <a:t>Springfield, I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76720" y="3276360"/>
            <a:ext cx="5494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e1ff"/>
                </a:solidFill>
                <a:latin typeface="Teen"/>
              </a:rPr>
              <a:t>8- When will we celebrate Lincoln’s bicentennial?</a:t>
            </a:r>
            <a:r>
              <a:rPr b="0" lang="en-US" sz="3200" spc="-1" strike="noStrike">
                <a:solidFill>
                  <a:srgbClr val="ffffff"/>
                </a:solidFill>
                <a:latin typeface="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2" name="Picture 6" descr="C:\Users\Mom\AppData\Local\Microsoft\Windows\Temporary Internet Files\Content.IE5\5K0H2S4K\MPj04072130000[1].jpg"/>
          <p:cNvPicPr/>
          <p:nvPr/>
        </p:nvPicPr>
        <p:blipFill>
          <a:blip r:embed="rId1"/>
          <a:stretch/>
        </p:blipFill>
        <p:spPr>
          <a:xfrm>
            <a:off x="609480" y="4267080"/>
            <a:ext cx="2438640" cy="1757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C:\Users\Mom\AppData\Local\Microsoft\Windows\Temporary Internet Files\Content.IE5\SKQSJA4N\MCSO00574_0000[1].wmf"/>
          <p:cNvPicPr/>
          <p:nvPr/>
        </p:nvPicPr>
        <p:blipFill>
          <a:blip r:embed="rId2"/>
          <a:stretch/>
        </p:blipFill>
        <p:spPr>
          <a:xfrm>
            <a:off x="6781680" y="762120"/>
            <a:ext cx="1428840" cy="177012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8"/>
          <p:cNvSpPr/>
          <p:nvPr/>
        </p:nvSpPr>
        <p:spPr>
          <a:xfrm>
            <a:off x="4267080" y="44956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bde1ff"/>
              </a:buClr>
              <a:buFont typeface="Tee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 </a:t>
            </a:r>
            <a:r>
              <a:rPr b="0" lang="en-US" sz="2800" spc="-1" strike="noStrike">
                <a:solidFill>
                  <a:srgbClr val="bde1ff"/>
                </a:solidFill>
                <a:latin typeface="Teen"/>
              </a:rPr>
              <a:t>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0">
            <a:hlinkClick r:id="" action="ppaction://hlinkshowjump?jump=previousslide"/>
          </p:cNvPr>
          <p:cNvSpPr/>
          <p:nvPr/>
        </p:nvSpPr>
        <p:spPr>
          <a:xfrm>
            <a:off x="73152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b7deff"/>
                </a:solidFill>
                <a:latin typeface="Teen"/>
              </a:rPr>
              <a:t>Sorry, incorrect answ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6629400" y="5791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try a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Kentucky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3657240"/>
            <a:ext cx="7216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4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ff"/>
                </a:solidFill>
                <a:latin typeface="Teen"/>
              </a:rPr>
              <a:t>Correct Answer!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b7deff"/>
                </a:solidFill>
                <a:latin typeface="Teen"/>
              </a:rPr>
              <a:t>Yes, 16</a:t>
            </a:r>
            <a:endParaRPr b="0" lang="en-US" sz="7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6781680" y="5562720"/>
            <a:ext cx="1447920" cy="916920"/>
          </a:xfrm>
          <a:prstGeom prst="rect">
            <a:avLst/>
          </a:prstGeom>
          <a:solidFill>
            <a:srgbClr val="b7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to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1:19:00Z</dcterms:created>
  <dc:creator>Mom</dc:creator>
  <dc:description/>
  <dc:language>en-US</dc:language>
  <cp:lastModifiedBy>Pam O'Risky</cp:lastModifiedBy>
  <dcterms:modified xsi:type="dcterms:W3CDTF">2008-07-25T11:30:00Z</dcterms:modified>
  <cp:revision>62</cp:revision>
  <dc:subject/>
  <dc:title>Slide 1</dc:title>
</cp:coreProperties>
</file>