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jpeg" ContentType="image/jpeg"/>
  <Override PartName="/ppt/media/buzzthru.wav" ContentType="audio/x-wav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15DB-7615-471C-B3A4-354F11721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785B-DA49-450E-BFF4-9A83019DDC1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8570-D95E-4531-9697-F1A332DD0A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BA3D-4BF1-4850-9785-0732C5051B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6EA1-9C4F-4A56-9620-6096212600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9A0A-3C4B-41C3-B6A3-D71AA196B6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71CC-482A-4DA4-9271-8ABB5A306C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051B-BEC5-4A56-AAB8-40365CB3AF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EB35-3F53-4F50-983D-ED0AA3146F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D3C4-BF3B-43B3-9730-B090AAE2DD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EF51-2075-4B3B-95A0-F43BE6B009E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54CF-1C25-4C59-A00A-7DE4DB1BFEB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540E-8681-4CB9-923E-4E506F1500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DCC7-B64A-4F82-867A-D5CBF22776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5659-73E4-4A95-9A32-3BDE66F29C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EA10-889D-48E4-A169-CB66DFC80E6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BD5-0596-4465-B3B4-631F5817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8BC-97B9-40AA-A472-3CE7B491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527-4BE2-4CFF-BF8D-4D130111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359-AEE6-4150-BB30-4B583A19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B2AA4-DCD2-4A77-B844-AEF4CD1C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69CC2-7E82-4B50-B5FE-BD580FC6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A3C69-DE28-4E17-860F-2AF39A6C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D4576-2A5B-430B-8C68-ED0237CE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3C1C9-53A5-441D-A74A-BBD4B292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2998F-3D12-4C8B-8610-04621B7B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E2FF3-F0F7-4FB2-9F2F-1254A958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E333-8DDF-45EE-9B61-73B0F96F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C3CC2-8E74-4728-B304-C4F06B84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F63CA-76DB-4E77-98C7-C0B947E6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1EC8C-4AA0-47B7-8991-FE09AAF8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D8F40-D728-42C2-ACF9-80CFB0E5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0FE0F-735A-4D57-B153-11B5D7E5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3E00E-5A21-4C72-98B4-7CC664B6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548AE-7A08-4903-A54C-FCF2F8F9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ABEFF-3FA3-440D-997A-382D2C4A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02ACD-F851-4F78-AA23-43A9C88E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A9766-902E-4D9F-B8B0-3D6096D7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4903-E6D1-4F06-B42C-4111D343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4DD38-9B29-4AF5-BF00-80370982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A19FF-7D3C-4C15-82FE-6A037F68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63D49-38B5-4CC2-BFE8-51A3F3D8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AB462-6D31-4144-BCD6-92A57EA1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90B8B-0484-4822-817D-72877BE1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5876D-F1B7-4C0C-BDD0-90BDC009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07032-1EE5-414E-AE82-E6F8AC8D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EF623-839E-4570-B066-55E5E079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B1561-2549-4FDD-80DB-D0078138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BDFF4-F394-4579-8CD4-E647C502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AFE8-208C-4A70-828F-7EA4C77B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2A033-0F3F-40B2-BA36-9D3FAF5B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51A45-D534-4D12-B05F-E2BED07A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C187D-5F9B-4263-BA91-2D93607D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BB500-545A-45B4-8B25-CD0508A3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68935-1B94-48E8-ABA8-2C6D5946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B74C2-7B74-4D99-9BC9-93DC58BB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EA123-02A7-41DB-90D7-A3F78AC4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21477-A4AC-456A-8FF7-DDD8C878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D5CC1-48E2-4C2B-BE97-AC6ADED8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FE3E1-ACEA-438E-923B-D5428841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A529-6BB6-4540-A893-FB09495D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25B10-817A-4CF5-A709-894216C6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27403-1F05-4874-94A5-7E2AE8CF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5ED98-FDFE-422E-BC8E-9512B679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99621-48E8-4FCC-9258-DB41D666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89DB9-2B6B-4D1F-850C-1478811A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A7002-78B1-4DD0-8BC4-38B18DDF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087CF-9475-4BED-BD5B-7FB36398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4EA8C-480F-4311-9B64-22BE4759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BB725-A92A-4FCB-B3C1-D6E567F9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EBF1C-D3F3-4900-A32A-78ADA9E0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C7B-3F7B-4DEA-8B58-22FFDABF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67D9A-7AF1-419B-B419-A3821E21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BB903-3830-4D0F-A1AE-50F2F2A8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7E9A4-804F-4EC3-97C7-55C608CE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CBB2E-6EB3-4231-A54A-0DFBC623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60117-138F-431A-A288-88090448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2F46A-BACB-41D7-B491-09DA8B6A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DBC93-CDDA-4B29-9AAB-93235135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0A2E5-F02C-479A-A47B-0AA1580D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24C8E-6EAA-4160-B7A3-BD0456D6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560A0-8F7F-4770-B0AA-DA324FF9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3D5-E166-4A67-BD12-2F7ADD19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4973C-01A5-4EE4-9252-98B61366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8B84F-768A-4244-B76B-BF9C952E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97223-BE37-40D8-BFD2-179AB7A9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35DDF-29CE-457A-A69E-720EFE31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05F5F-6E7A-4B77-B010-E5617AA5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0454B-8DE6-4FE2-8DEB-6CD9DA7D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F96E6-1ED4-4FD2-AD08-3442C686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BED05-D321-4CA1-B998-2DF9EF5B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27C45-EE00-4A3E-AF76-7C58A140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7C3DB-E8BE-46E2-BBDC-A07A40F6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FDED-A25A-4C9C-8725-4A241B14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7A098-6FF0-4E5E-941B-2D398028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DC6B3-43F4-4154-90F5-2431C1A1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7F6F7-2C62-4620-BE06-F58DDCA6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AE831-9F7C-4A34-8531-ADDE693D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C7F92-8710-4EE8-9A11-2F21F240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B52B6-F9ED-4827-8E53-B9978E11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7422A-4082-43F9-A7BD-77546279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2B11B-6C05-4CB0-8F6C-10779D58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42001-9BAB-4486-B093-8E5A7A5E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73DEE-80D0-4E79-B004-D2BA1908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5243-079C-4101-9101-DCBC6B25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5B86A-720E-40B9-B992-B6B6C358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035FB-1FBC-458C-8D88-6D19C9E8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E2C52-FA14-44FD-9271-368BE949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19E29-7D73-4FCE-A2FE-63314D2F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EE5F8-50EB-4D0E-85FE-FA4D9B21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EAB02-E302-4098-8986-11B4BF47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93B93-A8B7-4EAF-994F-10F74847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E161-3AD4-41B7-AD9A-1080501F14A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C793-150E-43A4-912E-DF6E84A47E9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B16A-D1C8-4243-BA2C-AEEBD699377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04D9-9048-4C30-BBC3-939CAB970DB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A3F1-653E-40B9-8F68-672E46D0756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8D50-7ED1-460B-8DA8-C2EC62B7CB4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Group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29" name="Straight Connector 20"/>
            <p:cNvSpPr/>
            <p:nvPr/>
          </p:nvSpPr>
          <p:spPr>
            <a:xfrm>
              <a:off x="8579520" y="12175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Straight Connector 23"/>
            <p:cNvSpPr/>
            <p:nvPr/>
          </p:nvSpPr>
          <p:spPr>
            <a:xfrm>
              <a:off x="8516520" y="12826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Straight Connector 24"/>
            <p:cNvSpPr/>
            <p:nvPr/>
          </p:nvSpPr>
          <p:spPr>
            <a:xfrm flipV="1">
              <a:off x="8579520" y="12823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33" name="Straight Connector 26"/>
            <p:cNvSpPr/>
            <p:nvPr/>
          </p:nvSpPr>
          <p:spPr>
            <a:xfrm>
              <a:off x="8732520" y="1370160"/>
              <a:ext cx="658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Straight Connector 27"/>
            <p:cNvSpPr/>
            <p:nvPr/>
          </p:nvSpPr>
          <p:spPr>
            <a:xfrm>
              <a:off x="8669520" y="1435320"/>
              <a:ext cx="93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Straight Connector 28"/>
            <p:cNvSpPr/>
            <p:nvPr/>
          </p:nvSpPr>
          <p:spPr>
            <a:xfrm flipV="1">
              <a:off x="8732520" y="1434960"/>
              <a:ext cx="658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37" name="Straight Connector 30"/>
            <p:cNvSpPr/>
            <p:nvPr/>
          </p:nvSpPr>
          <p:spPr>
            <a:xfrm>
              <a:off x="8384400" y="14731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Straight Connector 31"/>
            <p:cNvSpPr/>
            <p:nvPr/>
          </p:nvSpPr>
          <p:spPr>
            <a:xfrm>
              <a:off x="8321400" y="15382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Straight Connector 32"/>
            <p:cNvSpPr/>
            <p:nvPr/>
          </p:nvSpPr>
          <p:spPr>
            <a:xfrm flipV="1">
              <a:off x="8384400" y="15379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2516-42F9-42F3-B666-5D42D6E2F75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8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6877-C9FC-4F29-A173-1B09E1B78FB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slide" Target="slide12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uzzthru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1eeff"/>
                </a:solidFill>
                <a:latin typeface="Teen"/>
              </a:rPr>
              <a:t>All About Abe…</a:t>
            </a:r>
            <a:endParaRPr b="0" lang="en-US" sz="8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56240" y="274284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9e7ff"/>
                </a:solidFill>
                <a:latin typeface="Teen"/>
              </a:rPr>
              <a:t>Illinois’ 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9e7ff"/>
                </a:solidFill>
                <a:latin typeface="Teen"/>
              </a:rPr>
              <a:t>Favorite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9e7ff"/>
                </a:solidFill>
                <a:latin typeface="Teen"/>
              </a:rPr>
              <a:t>Son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3" name="Picture 2" descr="C:\Users\Mom\AppData\Local\Microsoft\Windows\Temporary Internet Files\Content.IE5\2IN7XX57\MCj00926710000[1].wmf"/>
          <p:cNvPicPr/>
          <p:nvPr/>
        </p:nvPicPr>
        <p:blipFill>
          <a:blip r:embed="rId1"/>
          <a:stretch/>
        </p:blipFill>
        <p:spPr>
          <a:xfrm>
            <a:off x="1062000" y="2514600"/>
            <a:ext cx="2844720" cy="3781440"/>
          </a:xfrm>
          <a:prstGeom prst="rect">
            <a:avLst/>
          </a:prstGeom>
          <a:ln w="0">
            <a:noFill/>
          </a:ln>
        </p:spPr>
      </p:pic>
      <p:sp>
        <p:nvSpPr>
          <p:cNvPr id="454" name="AutoShape 9">
            <a:hlinkClick r:id="" action="ppaction://hlinkshowjump?jump=nextslide"/>
          </p:cNvPr>
          <p:cNvSpPr/>
          <p:nvPr/>
        </p:nvSpPr>
        <p:spPr>
          <a:xfrm>
            <a:off x="77724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16200" y="628812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deff"/>
                </a:solidFill>
                <a:latin typeface="Arial"/>
              </a:rPr>
              <a:t>By Cathy Behr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761760" y="3733560"/>
            <a:ext cx="7597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533520" y="914400"/>
            <a:ext cx="8076960" cy="266688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</a:t>
            </a:r>
            <a:br>
              <a:rPr sz="7900"/>
            </a:b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Jan. 23, 1863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990360" y="3809880"/>
            <a:ext cx="7140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7deff"/>
                </a:solidFill>
                <a:latin typeface="Teen"/>
              </a:rPr>
              <a:t>Yes,</a:t>
            </a:r>
            <a:br>
              <a:rPr sz="6500"/>
            </a:br>
            <a:r>
              <a:rPr b="0" lang="en-US" sz="6500" spc="-1" strike="noStrike">
                <a:solidFill>
                  <a:srgbClr val="b7deff"/>
                </a:solidFill>
                <a:latin typeface="Teen"/>
              </a:rPr>
              <a:t>John Wilkes Booth</a:t>
            </a:r>
            <a:endParaRPr b="0" lang="en-US" sz="65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243864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</a:t>
            </a:r>
            <a:br>
              <a:rPr sz="7900"/>
            </a:b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Ford's Theatre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4" name="Subtitle 4"/>
          <p:cNvSpPr/>
          <p:nvPr/>
        </p:nvSpPr>
        <p:spPr>
          <a:xfrm>
            <a:off x="914400" y="3733920"/>
            <a:ext cx="7238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838080" y="3809520"/>
            <a:ext cx="7445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457200" y="99036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</a:t>
            </a:r>
            <a:br>
              <a:rPr sz="7900"/>
            </a:b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Springfield, IL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7445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 2009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1" name="AutoShape 9">
            <a:hlinkClick r:id="" action="ppaction://hlinkshowjump?jump=nextslide"/>
          </p:cNvPr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1eeff"/>
                </a:solidFill>
                <a:latin typeface="Teen"/>
              </a:rPr>
              <a:t>Your Assignment:</a:t>
            </a:r>
            <a:endParaRPr b="0" lang="en-US" sz="7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838080" y="2590560"/>
            <a:ext cx="74678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ff"/>
                </a:solidFill>
                <a:latin typeface="Teen"/>
              </a:rPr>
              <a:t>Click here and make up 2 more questions on Mr. Lincoln</a:t>
            </a:r>
            <a:r>
              <a:rPr b="0" lang="en-US" sz="4800" spc="-1" strike="noStrike">
                <a:solidFill>
                  <a:srgbClr val="ffffff"/>
                </a:solidFill>
                <a:latin typeface="Teen"/>
              </a:rPr>
              <a:t> </a:t>
            </a:r>
            <a:r>
              <a:rPr b="0" lang="en-US" sz="4800" spc="-1" strike="noStrike">
                <a:solidFill>
                  <a:srgbClr val="b7deff"/>
                </a:solidFill>
                <a:latin typeface="Teen"/>
              </a:rPr>
              <a:t>from the website information.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AutoShape 9">
            <a:hlinkClick r:id="" action="ppaction://hlinkshowjump?jump=endshow"/>
          </p:cNvPr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AutoShape 9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342900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Teen"/>
              </a:rPr>
              <a:t>How many children did Lincoln have? </a:t>
            </a:r>
            <a:br>
              <a:rPr sz="32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286000" y="609480"/>
            <a:ext cx="6324480" cy="27432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e7ff"/>
                </a:solidFill>
                <a:latin typeface="Teen"/>
              </a:rPr>
              <a:t>Where was Lincoln born?</a:t>
            </a:r>
            <a:r>
              <a:rPr b="0" lang="en-US" sz="4000" spc="-1" strike="noStrike">
                <a:solidFill>
                  <a:srgbClr val="ffffff"/>
                </a:solidFill>
                <a:latin typeface="Tee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8803"/>
                </a:solidFill>
                <a:uFillTx/>
                <a:latin typeface="Teen"/>
                <a:hlinkClick r:id="rId1" action="ppaction://hlinksldjump"/>
              </a:rPr>
              <a:t> Kentucky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8803"/>
                </a:solidFill>
                <a:uFillTx/>
                <a:latin typeface="Teen"/>
                <a:hlinkClick r:id="rId2" action="ppaction://hlinksldjump"/>
              </a:rPr>
              <a:t> Indian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8803"/>
                </a:solidFill>
                <a:uFillTx/>
                <a:latin typeface="Teen"/>
                <a:hlinkClick r:id="rId3" action="ppaction://hlinksldjump"/>
              </a:rPr>
              <a:t> Illinoi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9" name="Picture 9" descr="C:\Users\Mom\AppData\Local\Microsoft\Windows\Temporary Internet Files\Content.IE5\2IN7XX57\MCj03703900000[1].wmf"/>
          <p:cNvPicPr/>
          <p:nvPr/>
        </p:nvPicPr>
        <p:blipFill>
          <a:blip r:embed="rId4"/>
          <a:stretch/>
        </p:blipFill>
        <p:spPr>
          <a:xfrm>
            <a:off x="838080" y="1066680"/>
            <a:ext cx="1447920" cy="19796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0" descr="C:\Users\Mom\AppData\Local\Microsoft\Windows\Temporary Internet Files\Content.IE5\5K0H2S4K\MCj03246240000[1].wmf"/>
          <p:cNvPicPr/>
          <p:nvPr/>
        </p:nvPicPr>
        <p:blipFill>
          <a:blip r:embed="rId5"/>
          <a:stretch/>
        </p:blipFill>
        <p:spPr>
          <a:xfrm>
            <a:off x="6019920" y="4495680"/>
            <a:ext cx="1822320" cy="116532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9"/>
          <p:cNvSpPr/>
          <p:nvPr/>
        </p:nvSpPr>
        <p:spPr>
          <a:xfrm>
            <a:off x="1905120" y="4800600"/>
            <a:ext cx="289548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6" action="ppaction://hlinksldjump"/>
              </a:rPr>
              <a:t>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7" action="ppaction://hlinksldjump"/>
              </a:rPr>
              <a:t>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8" action="ppaction://hlinksldjump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8">
            <a:hlinkClick r:id="" action="ppaction://hlinkshowjump?jump=nextslide"/>
          </p:cNvPr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6477120" cy="13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Teen"/>
              </a:rPr>
              <a:t>3-Which number President was Lincoln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895120" y="1828800"/>
            <a:ext cx="16765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9920" indent="-467640" algn="ctr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1" action="ppaction://hlinksldjump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9920" indent="-467640" algn="ctr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2" action="ppaction://hlinksldjump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9920" indent="-467640" algn="ctr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3" action="ppaction://hlinksldjump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33520" y="3505320"/>
            <a:ext cx="8161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6440" indent="-263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e7ff"/>
                </a:solidFill>
                <a:latin typeface="Teen"/>
              </a:rPr>
              <a:t>4-When did Lincoln issue the Emancipation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e7ff"/>
                </a:solidFill>
                <a:latin typeface="Teen"/>
              </a:rPr>
              <a:t>Proclamation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e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66" name="Picture 2" descr="C:\Users\Mom\AppData\Local\Microsoft\Windows\Temporary Internet Files\Content.IE5\X0QAMAIZ\MCj01498810000[1].wmf"/>
          <p:cNvPicPr/>
          <p:nvPr/>
        </p:nvPicPr>
        <p:blipFill>
          <a:blip r:embed="rId4"/>
          <a:stretch/>
        </p:blipFill>
        <p:spPr>
          <a:xfrm>
            <a:off x="6629400" y="1371600"/>
            <a:ext cx="1708200" cy="13716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" descr="C:\Users\Mom\AppData\Local\Microsoft\Windows\Temporary Internet Files\Content.IE5\2IN7XX57\MPj04222370000[1].jpg"/>
          <p:cNvPicPr/>
          <p:nvPr/>
        </p:nvPicPr>
        <p:blipFill>
          <a:blip r:embed="rId5"/>
          <a:stretch/>
        </p:blipFill>
        <p:spPr>
          <a:xfrm>
            <a:off x="990720" y="4572000"/>
            <a:ext cx="1834920" cy="13716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8"/>
          <p:cNvSpPr/>
          <p:nvPr/>
        </p:nvSpPr>
        <p:spPr>
          <a:xfrm>
            <a:off x="3429000" y="4800600"/>
            <a:ext cx="388620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Teen"/>
                <a:hlinkClick r:id="rId6" action="ppaction://hlinksldjump"/>
              </a:rPr>
              <a:t> </a:t>
            </a: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7" action="ppaction://hlinksldjump"/>
              </a:rPr>
              <a:t>July 4, 17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8" action="ppaction://hlinksldjump"/>
              </a:rPr>
              <a:t> Jan. 23, 18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9" action="ppaction://hlinksldjump"/>
              </a:rPr>
              <a:t> December 25, 19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9">
            <a:hlinkClick r:id="" action="ppaction://hlinkshowjump?jump=nextslide"/>
          </p:cNvPr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0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Teen"/>
              </a:rPr>
              <a:t>5-Who assassinated President Lincoln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8120" y="1294920"/>
            <a:ext cx="403848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9920" indent="-46764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1" action="ppaction://hlinksldjump"/>
              </a:rPr>
              <a:t>George Bus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9920" indent="-46764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2" action="ppaction://hlinksldjump"/>
              </a:rPr>
              <a:t>Andrew Johns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9920" indent="-46764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3" action="ppaction://hlinksldjump"/>
              </a:rPr>
              <a:t>John Wilkes Boot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837720" y="3352320"/>
            <a:ext cx="48769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de1ff"/>
                </a:solidFill>
                <a:latin typeface="Corbel"/>
              </a:rPr>
              <a:t>6-Where was Lincoln assassinated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74" name="Picture 2" descr="C:\Users\Mom\AppData\Local\Microsoft\Windows\Temporary Internet Files\Content.IE5\5K0H2S4K\MCj02309290000[1].wmf"/>
          <p:cNvPicPr/>
          <p:nvPr/>
        </p:nvPicPr>
        <p:blipFill>
          <a:blip r:embed="rId4"/>
          <a:stretch/>
        </p:blipFill>
        <p:spPr>
          <a:xfrm>
            <a:off x="685800" y="1447920"/>
            <a:ext cx="2293920" cy="12888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" descr="C:\Users\Mom\AppData\Local\Microsoft\Windows\Temporary Internet Files\Content.IE5\X0QAMAIZ\MPj04331120000[1].jpg"/>
          <p:cNvPicPr/>
          <p:nvPr/>
        </p:nvPicPr>
        <p:blipFill>
          <a:blip r:embed="rId5"/>
          <a:stretch/>
        </p:blipFill>
        <p:spPr>
          <a:xfrm>
            <a:off x="6705720" y="4114800"/>
            <a:ext cx="1827000" cy="137160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8"/>
          <p:cNvSpPr/>
          <p:nvPr/>
        </p:nvSpPr>
        <p:spPr>
          <a:xfrm>
            <a:off x="2209680" y="4724280"/>
            <a:ext cx="411480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6" action="ppaction://hlinksldjump"/>
              </a:rPr>
              <a:t> Ford’s Thea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7" action="ppaction://hlinksldjump"/>
              </a:rPr>
              <a:t> Chevrolet Thea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8" action="ppaction://hlinksldjump"/>
              </a:rPr>
              <a:t> Madison Thea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9">
            <a:hlinkClick r:id="" action="ppaction://hlinkshowjump?jump=nextslide"/>
          </p:cNvPr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10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51264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Teen"/>
              </a:rPr>
              <a:t>7-Where is Lincoln buried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838080" y="1295280"/>
            <a:ext cx="4724640" cy="16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0" indent="-45720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e7ff"/>
                </a:solidFill>
                <a:latin typeface="Teen"/>
              </a:rPr>
              <a:t>Washington, D. C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5600" indent="-45720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e7ff"/>
                </a:solidFill>
                <a:latin typeface="Teen"/>
              </a:rPr>
              <a:t>New York City, N. Y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5600" indent="-45720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e7ff"/>
                </a:solidFill>
                <a:latin typeface="Teen"/>
              </a:rPr>
              <a:t>Springfield, I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276720" y="3276360"/>
            <a:ext cx="5494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de1ff"/>
                </a:solidFill>
                <a:latin typeface="Teen"/>
              </a:rPr>
              <a:t>8- When will we celebrate Lincoln’s bicentennial?</a:t>
            </a:r>
            <a:r>
              <a:rPr b="0" lang="en-US" sz="3200" spc="-1" strike="noStrike">
                <a:solidFill>
                  <a:srgbClr val="ffffff"/>
                </a:solidFill>
                <a:latin typeface="Tee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82" name="Picture 6" descr="C:\Users\Mom\AppData\Local\Microsoft\Windows\Temporary Internet Files\Content.IE5\5K0H2S4K\MPj04072130000[1].jpg"/>
          <p:cNvPicPr/>
          <p:nvPr/>
        </p:nvPicPr>
        <p:blipFill>
          <a:blip r:embed="rId1"/>
          <a:stretch/>
        </p:blipFill>
        <p:spPr>
          <a:xfrm>
            <a:off x="609480" y="4267080"/>
            <a:ext cx="2438640" cy="17575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9" descr="C:\Users\Mom\AppData\Local\Microsoft\Windows\Temporary Internet Files\Content.IE5\SKQSJA4N\MCSO00574_0000[1].wmf"/>
          <p:cNvPicPr/>
          <p:nvPr/>
        </p:nvPicPr>
        <p:blipFill>
          <a:blip r:embed="rId2"/>
          <a:stretch/>
        </p:blipFill>
        <p:spPr>
          <a:xfrm>
            <a:off x="6781680" y="762120"/>
            <a:ext cx="1428840" cy="177012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8"/>
          <p:cNvSpPr/>
          <p:nvPr/>
        </p:nvSpPr>
        <p:spPr>
          <a:xfrm>
            <a:off x="4267080" y="4495680"/>
            <a:ext cx="33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 </a:t>
            </a: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 </a:t>
            </a: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 </a:t>
            </a: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10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b7deff"/>
                </a:solidFill>
                <a:latin typeface="Teen"/>
              </a:rPr>
              <a:t>Sorry, incorrect answe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6629400" y="5791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here to try ag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143000" y="36576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609120" y="15238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 Kentucky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990720" y="3657240"/>
            <a:ext cx="72165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title"/>
          </p:nvPr>
        </p:nvSpPr>
        <p:spPr>
          <a:xfrm>
            <a:off x="609120" y="159984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 4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609120" y="15238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 16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01:19:00Z</dcterms:created>
  <dc:creator>Mom</dc:creator>
  <dc:description/>
  <dc:language>en-US</dc:language>
  <cp:lastModifiedBy>Pam O'Risky</cp:lastModifiedBy>
  <dcterms:modified xsi:type="dcterms:W3CDTF">2008-07-25T11:30:00Z</dcterms:modified>
  <cp:revision>62</cp:revision>
  <dc:subject/>
  <dc:title>Slide 1</dc:title>
</cp:coreProperties>
</file>