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buzzthru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AFEC-84DB-4928-895E-0E885B4DE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CE0D-D7AF-4392-A2CA-E63FD0C2D8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1E3-FC80-4BF6-9057-D5A081A13E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DD98-8AAE-4432-B3F7-91471D6AA9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A9B0-2B4A-4767-A92B-21A8B5B995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B36-B363-4598-A5FE-1D8582008F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490E-1267-42CC-ACD1-A61B042118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AC9-286E-4068-8014-7371069ECE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EB9-C863-48B6-83F8-44E9BA74C1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013C-5E79-4064-A611-2532805561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B99-56ED-49EF-B4DE-BA4349B57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5BC-10D7-42AD-82F4-FA7CFF6504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900-0B3D-4EAE-83BF-7FEBEF273A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52E-59A7-4710-9754-DE0C8A90BA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FB8-E06C-4AA0-A02C-38CA5C8CA8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CBC-EF86-4A86-843C-12CEEDD673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B97-DB35-4299-899A-744639B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F3D-9108-4C90-9E6F-24E568A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462-7A2A-40A6-8C22-75456AEA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CC1-2219-4CC7-A34A-B42ADB06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9F157-C884-4601-83ED-EAFACE26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041C0-DB69-49B5-8554-6E4C29C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0645-6114-484B-8450-B1CA6DF9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276E7-829C-4704-83FD-4F732B1A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62F56-B490-47C7-88FE-093243C3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1F69-FCB9-4B8B-81BA-8C04A49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30A68-99B4-4074-A0B6-37ECED4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796-F239-4D0B-8B3B-E4DD05D9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C61C6-9D2A-48D7-B6B7-C5528D0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8E312-C792-472A-A0A1-D5D8F46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FFC92-0A11-4376-B72F-03AFFDF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B172D-1B67-4744-9D57-33F9A2FA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51D7-2758-422E-9254-CA5CAA40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C890-37C1-4E01-9264-E9E6AEFB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D5CD-7F77-44BF-8DC5-9C1720C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DA24-49B0-482C-B0CE-6A8BD33D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DDA1-FD66-4613-A127-BF9813DF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4A5E-78AD-4B67-A3F9-0132C1C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9B2-9A05-4D6B-A0FC-2EB0E54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ADD2-A242-4475-94E2-90627CF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B769-4474-4E7D-8E3D-819A532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9297-83BA-4D6A-9B95-EC2FB09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64FF-4BC0-4F25-AE19-598916D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AA69-6CF7-4D4D-851B-A75D0EE1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9795-AF45-4D48-883D-269BF6F2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4F27-E48C-448F-BC48-E7BCCDF4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DA8E-D867-42BE-8EAD-84E3620B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D478-0C7F-4AAB-AD98-089D62E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F726-7D91-459A-9C07-F868BEA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277-3FD3-4A70-9ABB-10D287E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DD9B-8C15-4945-A741-1A6FD50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3E72-9D95-4E52-B3D3-614193E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0E15-2F3F-4878-BC02-7B8A85C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EF4E-C39C-4B95-9DC0-3CF1A8E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5680-26E3-4AD8-820C-E05D6983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AF8DF-77A0-4D23-8037-5D4ED43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186F-4B5A-4564-BB83-E3B1C79D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56FE-44EC-4F43-A87A-E11530ED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3BDA-AAC5-4DB7-ADE9-A76250F6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61020-831C-4AF0-A807-38810A95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FDC-8A95-4A8A-A90F-90D502A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E581-F28C-4FF8-B390-132230B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A238-9041-4777-B3DF-AE2AFBB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4952-96D1-4ECA-97BC-5066522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19A8-ED8A-47AA-B47D-34DBE96F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0C19-E59A-428C-BF8D-FD25FA9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57B8-5833-4858-8524-FB441C5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9220-A442-44C9-8F98-7B072B1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7F6F-B8EC-446A-869C-3140624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05ED5-AFC1-46A2-A913-C0ED064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7E5D-43F1-43BF-A978-1FA19BA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3CD-E772-46F2-8F1A-A937E77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DF85-E47D-4D6A-9156-F6357D1D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7796-04B2-45AF-BC40-79756A7E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38539-41DD-4526-8902-C92FB3E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00F9-32A8-436D-B2B6-9EACC92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3CDF-3FF6-4BCE-8EBB-70D1F5C4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6228C-46AF-411E-9F81-4B4E2B7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1F82D-47FC-45D2-AF3A-F4EACA7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3A10-A48B-4282-AFB1-5696DA4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2B15-0EEA-47B7-BE34-F069B143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1D78C-C7D7-426F-87A9-8F18459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80F-2D3A-4F9E-B450-FB72D4C7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9DD1-A75F-4F27-A633-BC25FC0D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D4CE-297C-4000-8CFF-DDA1AA4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31825-5A5E-4877-B532-3B92B101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5BA1-FF86-493E-9392-A89CD8EB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BC8C1-98B2-4A07-B15E-E3AD552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C93C-9F37-4A3E-A56B-8B260F47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9D709-A3D2-4A4E-85C6-286139A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BC547-172E-4D83-880B-C6A7D71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E8D9-2720-4BD6-A7E9-C0CA3D25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93FF-525D-4AA0-A869-E6CEB78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E0A-49E3-44FA-8354-37C3C72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F9BA4-91FC-45B7-A563-085C1920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EF3F-D4C6-4736-ABB3-E725E24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DE8F-F4AD-4326-9157-D13B4953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B609-0F6A-45C8-B822-323AA7EE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3588-B96B-44A3-BA20-39FEDBC6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AF78-103D-4067-884E-355E479C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8A19-742F-42AF-9873-378186A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0285-1978-4B4F-8917-3F94EA9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1A3B-010D-43C1-B9DB-61A34DA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B9779-ED1D-4EBB-A96D-65F1762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DE0-CC57-4162-8D6B-CB0CD22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5195-4878-4726-A6D4-06D199D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29D84-4067-45B4-BCB9-4AF3984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9F00-E38C-4301-B89F-ECDA9A4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16C0B-FF14-42B2-8ACA-C9FC757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2A20-6014-456C-BF02-42B56E13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53714-7196-4B01-BBF1-625B4D78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C788-251B-44F6-94D9-2548A9E8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40A-D806-4FDD-B8F4-ABCBBAB8F8B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6D6-1966-4B97-A79C-69F49A21D5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EB0-74A6-4BA9-8690-6AF741304DB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CAB-8829-4FB5-AE09-3A981AD57B8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4C38-E370-420F-A21D-08BFD4D144B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9B7-3AE8-4BC3-8D00-1BF8F1B0A70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29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33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37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B138-274B-4BAA-BC64-CB52BFBB59E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225-9FA5-4AD7-91D4-2467A22FD8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uzzthru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1eeff"/>
                </a:solidFill>
                <a:latin typeface="Teen"/>
              </a:rPr>
              <a:t>All About Abe…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56240" y="27428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Illinois’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Favorit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C:\Users\Mom\AppData\Local\Microsoft\Windows\Temporary Internet Files\Content.IE5\2IN7XX57\MCj00926710000[1].wmf"/>
          <p:cNvPicPr/>
          <p:nvPr/>
        </p:nvPicPr>
        <p:blipFill>
          <a:blip r:embed="rId1"/>
          <a:stretch/>
        </p:blipFill>
        <p:spPr>
          <a:xfrm>
            <a:off x="1062000" y="2514600"/>
            <a:ext cx="2844720" cy="378144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9">
            <a:hlinkClick r:id="" action="ppaction://hlinkshowjump?jump=nextslide"/>
          </p:cNvPr>
          <p:cNvSpPr/>
          <p:nvPr/>
        </p:nvSpPr>
        <p:spPr>
          <a:xfrm>
            <a:off x="77724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16200" y="62881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deff"/>
                </a:solidFill>
                <a:latin typeface="Arial"/>
              </a:rPr>
              <a:t>By Cathy Behr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61760" y="3733560"/>
            <a:ext cx="759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666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Jan. 23, 1863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140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6500"/>
            </a:b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John Wilkes Booth</a:t>
            </a:r>
            <a:endParaRPr b="0" lang="en-US" sz="6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4386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Ford's Theatre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Subtitle 4"/>
          <p:cNvSpPr/>
          <p:nvPr/>
        </p:nvSpPr>
        <p:spPr>
          <a:xfrm>
            <a:off x="914400" y="3733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445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Springfield, IL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44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2009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1eeff"/>
                </a:solidFill>
                <a:latin typeface="Teen"/>
              </a:rPr>
              <a:t>Your Assignment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2590560"/>
            <a:ext cx="7467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Click here and make up 2 more questions on Mr. Lincoln</a:t>
            </a:r>
            <a:r>
              <a:rPr b="0" lang="en-US" sz="4800" spc="-1" strike="noStrike">
                <a:solidFill>
                  <a:srgbClr val="ffffff"/>
                </a:solidFill>
                <a:latin typeface="Teen"/>
              </a:rPr>
              <a:t> </a:t>
            </a: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from the website information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AutoShape 9">
            <a:hlinkClick r:id="" action="ppaction://hlinkshowjump?jump=endshow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9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How many children did Lincoln have? </a:t>
            </a:r>
            <a:br>
              <a:rPr sz="32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0" y="60948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e7ff"/>
                </a:solidFill>
                <a:latin typeface="Teen"/>
              </a:rPr>
              <a:t>Where was Lincoln born?</a:t>
            </a:r>
            <a:r>
              <a:rPr b="0" lang="en-US" sz="40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 Kentuc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 India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 Illino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9" descr="C:\Users\Mom\AppData\Local\Microsoft\Windows\Temporary Internet Files\Content.IE5\2IN7XX57\MCj0370390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44792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:\Users\Mom\AppData\Local\Microsoft\Windows\Temporary Internet Files\Content.IE5\5K0H2S4K\MCj03246240000[1].wmf"/>
          <p:cNvPicPr/>
          <p:nvPr/>
        </p:nvPicPr>
        <p:blipFill>
          <a:blip r:embed="rId5"/>
          <a:stretch/>
        </p:blipFill>
        <p:spPr>
          <a:xfrm>
            <a:off x="6019920" y="4495680"/>
            <a:ext cx="1822320" cy="11653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1905120" y="4800600"/>
            <a:ext cx="2895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8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647712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3-Which number President was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95120" y="18288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3505320"/>
            <a:ext cx="8161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4-When did Lincoln issue the Emancipatio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Proclamation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6" name="Picture 2" descr="C:\Users\Mom\AppData\Local\Microsoft\Windows\Temporary Internet Files\Content.IE5\X0QAMAIZ\MCj01498810000[1].wmf"/>
          <p:cNvPicPr/>
          <p:nvPr/>
        </p:nvPicPr>
        <p:blipFill>
          <a:blip r:embed="rId4"/>
          <a:stretch/>
        </p:blipFill>
        <p:spPr>
          <a:xfrm>
            <a:off x="6629400" y="1371600"/>
            <a:ext cx="17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Mom\AppData\Local\Microsoft\Windows\Temporary Internet Files\Content.IE5\2IN7XX57\MPj04222370000[1].jpg"/>
          <p:cNvPicPr/>
          <p:nvPr/>
        </p:nvPicPr>
        <p:blipFill>
          <a:blip r:embed="rId5"/>
          <a:stretch/>
        </p:blipFill>
        <p:spPr>
          <a:xfrm>
            <a:off x="990720" y="4572000"/>
            <a:ext cx="183492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"/>
          <p:cNvSpPr/>
          <p:nvPr/>
        </p:nvSpPr>
        <p:spPr>
          <a:xfrm>
            <a:off x="3429000" y="4800600"/>
            <a:ext cx="3886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July 4,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Jan. 23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9" action="ppaction://hlinksldjump"/>
              </a:rPr>
              <a:t> December 25, 19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5-Who assassinated President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8120" y="1294920"/>
            <a:ext cx="4038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George Bus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Andrew Johns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John Wilkes Boo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e1ff"/>
                </a:solidFill>
                <a:latin typeface="Corbel"/>
              </a:rPr>
              <a:t>6-Where was Lincoln assassinated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4" name="Picture 2" descr="C:\Users\Mom\AppData\Local\Microsoft\Windows\Temporary Internet Files\Content.IE5\5K0H2S4K\MCj02309290000[1].wmf"/>
          <p:cNvPicPr/>
          <p:nvPr/>
        </p:nvPicPr>
        <p:blipFill>
          <a:blip r:embed="rId4"/>
          <a:stretch/>
        </p:blipFill>
        <p:spPr>
          <a:xfrm>
            <a:off x="685800" y="1447920"/>
            <a:ext cx="2293920" cy="128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Mom\AppData\Local\Microsoft\Windows\Temporary Internet Files\Content.IE5\X0QAMAIZ\MPj04331120000[1].jpg"/>
          <p:cNvPicPr/>
          <p:nvPr/>
        </p:nvPicPr>
        <p:blipFill>
          <a:blip r:embed="rId5"/>
          <a:stretch/>
        </p:blipFill>
        <p:spPr>
          <a:xfrm>
            <a:off x="6705720" y="4114800"/>
            <a:ext cx="1827000" cy="13716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2209680" y="4724280"/>
            <a:ext cx="41148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Ford’s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Chevrolet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Madison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5126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7-Where is Lincoln buried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295280"/>
            <a:ext cx="472464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Washington, D. 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New York City, N. 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Springfield, 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76720" y="3276360"/>
            <a:ext cx="549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e1ff"/>
                </a:solidFill>
                <a:latin typeface="Teen"/>
              </a:rPr>
              <a:t>8- When will we celebrate Lincoln’s bicentennial?</a:t>
            </a: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2" name="Picture 6" descr="C:\Users\Mom\AppData\Local\Microsoft\Windows\Temporary Internet Files\Content.IE5\5K0H2S4K\MPj04072130000[1].jpg"/>
          <p:cNvPicPr/>
          <p:nvPr/>
        </p:nvPicPr>
        <p:blipFill>
          <a:blip r:embed="rId1"/>
          <a:stretch/>
        </p:blipFill>
        <p:spPr>
          <a:xfrm>
            <a:off x="609480" y="4267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C:\Users\Mom\AppData\Local\Microsoft\Windows\Temporary Internet Files\Content.IE5\SKQSJA4N\MCSO00574_0000[1].wmf"/>
          <p:cNvPicPr/>
          <p:nvPr/>
        </p:nvPicPr>
        <p:blipFill>
          <a:blip r:embed="rId2"/>
          <a:stretch/>
        </p:blipFill>
        <p:spPr>
          <a:xfrm>
            <a:off x="6781680" y="76212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4267080" y="44956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7deff"/>
                </a:solidFill>
                <a:latin typeface="Teen"/>
              </a:rPr>
              <a:t>Sorry, incorrect answ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6629400" y="5791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try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Kentucky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21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4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16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19:00Z</dcterms:created>
  <dc:creator>Mom</dc:creator>
  <dc:description/>
  <dc:language>en-US</dc:language>
  <cp:lastModifiedBy>Pam O'Risky</cp:lastModifiedBy>
  <dcterms:modified xsi:type="dcterms:W3CDTF">2008-07-25T11:30:00Z</dcterms:modified>
  <cp:revision>62</cp:revision>
  <dc:subject/>
  <dc:title>Slide 1</dc:title>
</cp:coreProperties>
</file>