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buzzthru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7F89-8ECB-4FF8-AC2A-A5EAB3F87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826-94DB-4D31-8DE7-CB8C662494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BC4-66B0-4E69-BE37-C6779E8FE7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2BD1-FC65-4C46-AABC-E4EE30A2E7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B20E-593F-46F3-81DD-C7AFFF1754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0E2-AFA9-4DE6-9E13-91572A28E7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BB2-7D7D-4044-92D1-0C39D877EB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22B-166C-4500-A9BA-E539BFCFF8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26A0-EEC8-49CB-AFFC-02C57BCF84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8F67-549A-466E-BD02-E8ADB217A5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8B3-7F1A-45E5-AE37-75A83198C0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FEF-FFEE-4A5B-AC75-1E920E376A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8C5-919F-45B1-82C9-867672AF6B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003E-56CD-450F-9A93-AABC6392B4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DA9-968F-4533-9C25-A48601803E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D798-8377-4F34-94F3-D6E8D935DD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FD1-59BD-49C2-BEDB-678C1C99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235-0239-4C08-96F2-66BD509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0ED-9EEA-494A-84A5-6812556A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21B-455F-45A4-B041-4CD0B95B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6CE8A-B6B9-4120-9C90-8617534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64A35-0E4F-4DEF-BADD-CB2D727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C86F6-1845-4D15-8B4E-20E94EDD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39EF-A35C-4020-B2E1-CFC416E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355AC-79F4-4CA7-8D79-311B9AA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8FFA0-7BF7-497F-9E4F-94CD1983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9FDA1-3FC5-4824-8A6E-37F299EE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763-9506-40D4-8F50-A7DD932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A833-48A9-4DA0-9BBC-3D69778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36237-4F1A-4549-B867-D809034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405F0-D4DE-4F27-8CA2-90028F1B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AFE9-0834-4F5F-AF59-F197E9F4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4D619-2202-42C2-A6CF-13F60B9E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F4CC-6200-4694-95CF-7CE23DCD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0E28-A6E3-4D2E-81EB-23FACFC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D394-ED3C-48A9-A38D-700EC70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A2F6-A7CF-4FA9-82F4-241736D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603D-CAC9-4C7C-80AF-C55A723C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90E-22F5-446E-8BC6-D0F65BF5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D254-657D-4281-8AC6-A24D751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6BD0-5D68-4D55-8D5B-D5BB3FA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FABA-9CE8-4B05-8884-05B7FBF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B1235-520C-4CE8-8881-813A141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4E3C-8124-41CE-AE6D-9FBB2CF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8D9E-B8D6-4540-BE8D-F6379468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1CE7-476B-494C-8BC6-63927AA8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BC6E6-9223-4C91-9400-4324A313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4BAF-03DA-4947-8E2D-A04C88AA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A02F-79CC-4634-A0DE-0DBCD2C7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1F8-2CB7-428E-85E5-A72950A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0971-1DF2-454B-84CB-46D7D9E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EFD4-473B-4635-919D-3CAD6AD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DA00-0EBB-4C52-9F54-7FA3EFD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C1CC-AB7B-49CC-A15D-FE8D528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FABA-7206-4B26-884B-F526BC5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53990-F554-4151-9A36-93A3EA7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447C-EA64-442F-BBD7-234D81F0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485C-373C-4D14-A3CD-8886CB5D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F9F4-A76B-45FE-9DF3-C4BA77B4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71DD-E461-441A-9B94-E9846851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28E-538F-4320-9645-5F47207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1083-FD29-42E2-ADDA-53905B9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58C9-B898-4368-BA5E-1B024D5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0068-8AEC-4C61-BCDF-70249ED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F316-B51C-42BB-A6DF-A154FEB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374E-F1AC-4C38-B85F-09603E6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4A27-71C9-4ED3-AB1C-F910834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4EE7-3860-483F-BCB6-B58BA4E4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43B1F-4828-439E-A3B4-AC31019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27A3-E0B7-4AFA-9EDE-82DFFAF4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34A7-1202-4A23-A44A-302F9ADD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E9D-FA10-4D33-B3BE-A6293898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6991-4B47-4A1C-9907-1300E4DF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A028-AA0B-428E-9C44-5EC1825A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F11C6-D795-41A7-BFC3-4A62491D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EA62-30D3-4CDB-A9A1-D2A21B7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93BD-710A-42CE-A665-7479E36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3C0A-5B4F-42F1-A856-6AFC934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B674-B48B-4B14-A541-44AE09D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7C2C-FD08-43B8-9CB7-6073483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351C8-1070-4234-8C26-2F9E1A6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6A5A-D942-48B7-ABCF-1DD2B4E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B44-B95B-47E0-9D84-E13521D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EF3AA-88C9-44AB-878C-B147822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A8D8-BD88-4BD0-B2E5-64201D57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7903-0526-4DF6-9FA0-24C0062A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4348C-B951-42B2-AB77-469EA2B6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66E3-F6E7-4DA6-8B78-5881E5E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B66EF-1661-4E47-8F97-9E1BA65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598F-BE11-4D31-98A3-0B3FD7CF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2B91-C94E-49EE-BEBB-D57E3FD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D0C7-D8B1-4FED-BDC3-A553509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3F71-EDD7-4BC4-9CAB-D9C569E1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F8-8B07-4B7C-A608-C5AB003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8DC0-12D3-4031-AA5C-F7A2EAC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7F0F-95DD-4133-A5D8-4C1131F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B53E0-4481-4F4B-B2B9-5735B4D9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5140-038D-4482-8F05-8693DCCA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4297-71D3-47A8-B55B-E1B825BA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CF36-8C21-4484-A2A0-D31F6233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0CE4C-689B-461E-A739-0916296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7E00-9F5B-4736-AD36-D1D5EC4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5D3B-3F01-4586-BBB4-3CAF877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A205-3416-4AE8-A291-29EEAE8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C4B-388B-4D17-8A9E-2D7DBEF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1D1B-3E5C-4527-BD7B-D341FF15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935C-3081-4D64-BFC2-0E33BF9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E286-98B3-4CA0-823D-B90D84B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E8B5-FF4B-4D8E-BA7E-74CD85D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4EF0-F34D-4A89-8E57-75B11B4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8D2B-34E1-4999-85AD-E2F82F3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3229-6B18-4919-88EC-63E2C553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0D2A-C741-4F34-AD58-F1D3FDB89D5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5F6-CEF1-4075-936E-7741FD4EAE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A56-E170-4B81-B401-A5EF5E13136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146-1D42-4925-911E-032D430171F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B6CD-5EF7-474D-8600-0233D78488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4EF-28F6-4EA9-978B-ADF423E9441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29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33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37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38C-789B-4F2B-8645-73C08DA2637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61F-0AC9-443D-84C2-E9CD09842F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uzzthru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1eeff"/>
                </a:solidFill>
                <a:latin typeface="Teen"/>
              </a:rPr>
              <a:t>All About Abe…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56240" y="27428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Illinois’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Favorit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C:\Users\Mom\AppData\Local\Microsoft\Windows\Temporary Internet Files\Content.IE5\2IN7XX57\MCj00926710000[1].wmf"/>
          <p:cNvPicPr/>
          <p:nvPr/>
        </p:nvPicPr>
        <p:blipFill>
          <a:blip r:embed="rId1"/>
          <a:stretch/>
        </p:blipFill>
        <p:spPr>
          <a:xfrm>
            <a:off x="1062000" y="2514600"/>
            <a:ext cx="2844720" cy="378144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9">
            <a:hlinkClick r:id="" action="ppaction://hlinkshowjump?jump=nextslide"/>
          </p:cNvPr>
          <p:cNvSpPr/>
          <p:nvPr/>
        </p:nvSpPr>
        <p:spPr>
          <a:xfrm>
            <a:off x="77724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16200" y="62881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deff"/>
                </a:solidFill>
                <a:latin typeface="Arial"/>
              </a:rPr>
              <a:t>By Cathy Behr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61760" y="3733560"/>
            <a:ext cx="759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666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Jan. 23, 1863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140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6500"/>
            </a:b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John Wilkes Booth</a:t>
            </a:r>
            <a:endParaRPr b="0" lang="en-US" sz="6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4386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Ford's Theatre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Subtitle 4"/>
          <p:cNvSpPr/>
          <p:nvPr/>
        </p:nvSpPr>
        <p:spPr>
          <a:xfrm>
            <a:off x="914400" y="3733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445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Springfield, IL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44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2009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1eeff"/>
                </a:solidFill>
                <a:latin typeface="Teen"/>
              </a:rPr>
              <a:t>Your Assignment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2590560"/>
            <a:ext cx="7467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Click here and make up 2 more questions on Mr. Lincoln</a:t>
            </a:r>
            <a:r>
              <a:rPr b="0" lang="en-US" sz="4800" spc="-1" strike="noStrike">
                <a:solidFill>
                  <a:srgbClr val="ffffff"/>
                </a:solidFill>
                <a:latin typeface="Teen"/>
              </a:rPr>
              <a:t> </a:t>
            </a: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from the website information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AutoShape 9">
            <a:hlinkClick r:id="" action="ppaction://hlinkshowjump?jump=endshow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9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How many children did Lincoln have? </a:t>
            </a:r>
            <a:br>
              <a:rPr sz="32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0" y="60948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e7ff"/>
                </a:solidFill>
                <a:latin typeface="Teen"/>
              </a:rPr>
              <a:t>Where was Lincoln born?</a:t>
            </a:r>
            <a:r>
              <a:rPr b="0" lang="en-US" sz="40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 Kentuc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 India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 Illino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9" descr="C:\Users\Mom\AppData\Local\Microsoft\Windows\Temporary Internet Files\Content.IE5\2IN7XX57\MCj0370390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44792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:\Users\Mom\AppData\Local\Microsoft\Windows\Temporary Internet Files\Content.IE5\5K0H2S4K\MCj03246240000[1].wmf"/>
          <p:cNvPicPr/>
          <p:nvPr/>
        </p:nvPicPr>
        <p:blipFill>
          <a:blip r:embed="rId5"/>
          <a:stretch/>
        </p:blipFill>
        <p:spPr>
          <a:xfrm>
            <a:off x="6019920" y="4495680"/>
            <a:ext cx="1822320" cy="11653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1905120" y="4800600"/>
            <a:ext cx="2895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8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647712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3-Which number President was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95120" y="18288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3505320"/>
            <a:ext cx="8161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4-When did Lincoln issue the Emancipatio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Proclamation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6" name="Picture 2" descr="C:\Users\Mom\AppData\Local\Microsoft\Windows\Temporary Internet Files\Content.IE5\X0QAMAIZ\MCj01498810000[1].wmf"/>
          <p:cNvPicPr/>
          <p:nvPr/>
        </p:nvPicPr>
        <p:blipFill>
          <a:blip r:embed="rId4"/>
          <a:stretch/>
        </p:blipFill>
        <p:spPr>
          <a:xfrm>
            <a:off x="6629400" y="1371600"/>
            <a:ext cx="17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Mom\AppData\Local\Microsoft\Windows\Temporary Internet Files\Content.IE5\2IN7XX57\MPj04222370000[1].jpg"/>
          <p:cNvPicPr/>
          <p:nvPr/>
        </p:nvPicPr>
        <p:blipFill>
          <a:blip r:embed="rId5"/>
          <a:stretch/>
        </p:blipFill>
        <p:spPr>
          <a:xfrm>
            <a:off x="990720" y="4572000"/>
            <a:ext cx="183492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"/>
          <p:cNvSpPr/>
          <p:nvPr/>
        </p:nvSpPr>
        <p:spPr>
          <a:xfrm>
            <a:off x="3429000" y="4800600"/>
            <a:ext cx="3886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July 4,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Jan. 23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9" action="ppaction://hlinksldjump"/>
              </a:rPr>
              <a:t> December 25, 19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5-Who assassinated President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8120" y="1294920"/>
            <a:ext cx="4038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George Bus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Andrew Johns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John Wilkes Boo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e1ff"/>
                </a:solidFill>
                <a:latin typeface="Corbel"/>
              </a:rPr>
              <a:t>6-Where was Lincoln assassinated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4" name="Picture 2" descr="C:\Users\Mom\AppData\Local\Microsoft\Windows\Temporary Internet Files\Content.IE5\5K0H2S4K\MCj02309290000[1].wmf"/>
          <p:cNvPicPr/>
          <p:nvPr/>
        </p:nvPicPr>
        <p:blipFill>
          <a:blip r:embed="rId4"/>
          <a:stretch/>
        </p:blipFill>
        <p:spPr>
          <a:xfrm>
            <a:off x="685800" y="1447920"/>
            <a:ext cx="2293920" cy="128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Mom\AppData\Local\Microsoft\Windows\Temporary Internet Files\Content.IE5\X0QAMAIZ\MPj04331120000[1].jpg"/>
          <p:cNvPicPr/>
          <p:nvPr/>
        </p:nvPicPr>
        <p:blipFill>
          <a:blip r:embed="rId5"/>
          <a:stretch/>
        </p:blipFill>
        <p:spPr>
          <a:xfrm>
            <a:off x="6705720" y="4114800"/>
            <a:ext cx="1827000" cy="13716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2209680" y="4724280"/>
            <a:ext cx="41148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Ford’s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Chevrolet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Madison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5126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7-Where is Lincoln buried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295280"/>
            <a:ext cx="472464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Washington, D. 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New York City, N. 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Springfield, 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76720" y="3276360"/>
            <a:ext cx="549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e1ff"/>
                </a:solidFill>
                <a:latin typeface="Teen"/>
              </a:rPr>
              <a:t>8- When will we celebrate Lincoln’s bicentennial?</a:t>
            </a: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2" name="Picture 6" descr="C:\Users\Mom\AppData\Local\Microsoft\Windows\Temporary Internet Files\Content.IE5\5K0H2S4K\MPj04072130000[1].jpg"/>
          <p:cNvPicPr/>
          <p:nvPr/>
        </p:nvPicPr>
        <p:blipFill>
          <a:blip r:embed="rId1"/>
          <a:stretch/>
        </p:blipFill>
        <p:spPr>
          <a:xfrm>
            <a:off x="609480" y="4267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C:\Users\Mom\AppData\Local\Microsoft\Windows\Temporary Internet Files\Content.IE5\SKQSJA4N\MCSO00574_0000[1].wmf"/>
          <p:cNvPicPr/>
          <p:nvPr/>
        </p:nvPicPr>
        <p:blipFill>
          <a:blip r:embed="rId2"/>
          <a:stretch/>
        </p:blipFill>
        <p:spPr>
          <a:xfrm>
            <a:off x="6781680" y="76212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4267080" y="44956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7deff"/>
                </a:solidFill>
                <a:latin typeface="Teen"/>
              </a:rPr>
              <a:t>Sorry, incorrect answ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6629400" y="5791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try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Kentucky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21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4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16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19:00Z</dcterms:created>
  <dc:creator>Mom</dc:creator>
  <dc:description/>
  <dc:language>en-US</dc:language>
  <cp:lastModifiedBy>Pam O'Risky</cp:lastModifiedBy>
  <dcterms:modified xsi:type="dcterms:W3CDTF">2008-07-25T11:30:00Z</dcterms:modified>
  <cp:revision>62</cp:revision>
  <dc:subject/>
  <dc:title>Slide 1</dc:title>
</cp:coreProperties>
</file>